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2403D-D103-4C05-8D8A-292A6922E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6265B-008F-493B-96C6-1E6AA1258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4"/>
          </p:nvPr>
        </p:nvSpPr>
        <p:spPr/>
        <p:txBody>
          <a:bodyPr/>
          <a:p>
            <a:fld id="{36F672D0-80C4-4835-99BF-0304B3D91D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4"/>
          </p:nvPr>
        </p:nvSpPr>
        <p:spPr/>
        <p:txBody>
          <a:bodyPr/>
          <a:p>
            <a:fld id="{CD396637-B647-4970-9D54-C62822F762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4"/>
          </p:nvPr>
        </p:nvSpPr>
        <p:spPr/>
        <p:txBody>
          <a:bodyPr/>
          <a:p>
            <a:fld id="{2453C8B1-3AEE-4F6D-94C3-76267A6E65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33C5AB61-8054-410E-AB50-AFA6F746C8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916D74DD-23C9-46BC-A026-8E17E5068A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4"/>
          </p:nvPr>
        </p:nvSpPr>
        <p:spPr/>
        <p:txBody>
          <a:bodyPr/>
          <a:p>
            <a:fld id="{A33ED11E-FF65-40B7-96EF-C50D763B00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4"/>
          </p:nvPr>
        </p:nvSpPr>
        <p:spPr/>
        <p:txBody>
          <a:bodyPr/>
          <a:p>
            <a:fld id="{AA7507D2-D8C3-406A-B2A6-7E0478237D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4"/>
          </p:nvPr>
        </p:nvSpPr>
        <p:spPr/>
        <p:txBody>
          <a:bodyPr/>
          <a:p>
            <a:fld id="{5D42F40B-25AA-48F2-BF76-C3392651FD0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4"/>
          </p:nvPr>
        </p:nvSpPr>
        <p:spPr/>
        <p:txBody>
          <a:bodyPr/>
          <a:p>
            <a:fld id="{475EFAA5-5248-4419-8B31-49FB8E1EA1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7"/>
          </p:nvPr>
        </p:nvSpPr>
        <p:spPr/>
        <p:txBody>
          <a:bodyPr/>
          <a:p>
            <a:fld id="{716A6CD8-7482-440F-8AC5-D56067D6B3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5B6E7-3535-42B4-B41F-961F9C160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7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7"/>
          </p:nvPr>
        </p:nvSpPr>
        <p:spPr/>
        <p:txBody>
          <a:bodyPr/>
          <a:p>
            <a:fld id="{0683033A-7222-456E-9D33-FF82EA4ED7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7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7"/>
          </p:nvPr>
        </p:nvSpPr>
        <p:spPr/>
        <p:txBody>
          <a:bodyPr/>
          <a:p>
            <a:fld id="{E3E21728-4DBD-4D38-8752-E6665A9813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7"/>
          </p:nvPr>
        </p:nvSpPr>
        <p:spPr/>
        <p:txBody>
          <a:bodyPr/>
          <a:p>
            <a:fld id="{D068317A-AFD8-4911-AF59-5BAF93774D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7"/>
          </p:nvPr>
        </p:nvSpPr>
        <p:spPr/>
        <p:txBody>
          <a:bodyPr/>
          <a:p>
            <a:fld id="{16FA3392-ACD4-4D44-B4F0-152AC4FE6B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7"/>
          </p:nvPr>
        </p:nvSpPr>
        <p:spPr/>
        <p:txBody>
          <a:bodyPr/>
          <a:p>
            <a:fld id="{84BA87EF-6FDF-4704-8E56-A04F55B7F4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7"/>
          </p:nvPr>
        </p:nvSpPr>
        <p:spPr/>
        <p:txBody>
          <a:bodyPr/>
          <a:p>
            <a:fld id="{17858EFD-87E6-4815-B1AC-170EB2FC1B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8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7"/>
          </p:nvPr>
        </p:nvSpPr>
        <p:spPr/>
        <p:txBody>
          <a:bodyPr/>
          <a:p>
            <a:fld id="{29FDA36E-7D26-4BA3-8A9B-68AD1CCEDA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7"/>
          </p:nvPr>
        </p:nvSpPr>
        <p:spPr/>
        <p:txBody>
          <a:bodyPr/>
          <a:p>
            <a:fld id="{CABD6C39-9700-42A4-8FB1-3F7D7279D0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9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7"/>
          </p:nvPr>
        </p:nvSpPr>
        <p:spPr/>
        <p:txBody>
          <a:bodyPr/>
          <a:p>
            <a:fld id="{269A75BB-41CB-42A0-B5BA-2024531283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7"/>
          </p:nvPr>
        </p:nvSpPr>
        <p:spPr/>
        <p:txBody>
          <a:bodyPr/>
          <a:p>
            <a:fld id="{D353B8F8-94E6-4223-8831-66D482127CE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C2419-77C0-473D-97B3-AEDC6646D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0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7"/>
          </p:nvPr>
        </p:nvSpPr>
        <p:spPr/>
        <p:txBody>
          <a:bodyPr/>
          <a:p>
            <a:fld id="{54A12198-FE32-4639-9ABE-8709AD53BB9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B45DFF6-6119-403C-AD1A-17D2FEA8AA7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2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B0DA77C-5ACC-42AC-A671-C9FFA724DDA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2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12ADD06-DDB6-44DD-ACAA-A34BAFAE923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E0EA4A9-304D-43C7-B0DC-E404789967B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FC75103-4CCF-49F5-9EEB-B71138B3C5D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D67BCD8-C81C-4946-9BEE-9927829A124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A83980C-7500-4AF3-8EB8-54458CF5D7D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3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C45D31A-0CCF-4C52-AFE4-DE4C6810406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D25A500-206E-4C98-A921-45825D8C6C5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04E6A-8DC1-4A53-AB49-A58F0E27EB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4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C8F8668-C7C8-4125-A7F9-35B0154B486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4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53F105B-54AD-4C37-9C4E-A7417299158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5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EE0DA65-C02E-4CFE-9B44-798E11179DE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3"/>
          </p:nvPr>
        </p:nvSpPr>
        <p:spPr/>
        <p:txBody>
          <a:bodyPr/>
          <a:p>
            <a:fld id="{2A9E375A-1359-4582-AB22-D5490B22B75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7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3"/>
          </p:nvPr>
        </p:nvSpPr>
        <p:spPr/>
        <p:txBody>
          <a:bodyPr/>
          <a:p>
            <a:fld id="{E20B671A-716F-41CE-A241-B87B68BC54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7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3"/>
          </p:nvPr>
        </p:nvSpPr>
        <p:spPr/>
        <p:txBody>
          <a:bodyPr/>
          <a:p>
            <a:fld id="{0231F4B9-7FD4-48BF-A09A-E7FF18AC05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3"/>
          </p:nvPr>
        </p:nvSpPr>
        <p:spPr/>
        <p:txBody>
          <a:bodyPr/>
          <a:p>
            <a:fld id="{5F125707-2C55-46E8-904B-DA83B1650C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3"/>
          </p:nvPr>
        </p:nvSpPr>
        <p:spPr/>
        <p:txBody>
          <a:bodyPr/>
          <a:p>
            <a:fld id="{0530E530-85C2-4CC7-A6DB-FEC5BE520A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3"/>
          </p:nvPr>
        </p:nvSpPr>
        <p:spPr/>
        <p:txBody>
          <a:bodyPr/>
          <a:p>
            <a:fld id="{138C6C72-F006-482C-BAB8-17F78B11C0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3"/>
          </p:nvPr>
        </p:nvSpPr>
        <p:spPr/>
        <p:txBody>
          <a:bodyPr/>
          <a:p>
            <a:fld id="{2643D38D-F16C-41CD-9610-1D033C7E47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90D57-022B-4517-BD7D-ADDD95294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8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3"/>
          </p:nvPr>
        </p:nvSpPr>
        <p:spPr/>
        <p:txBody>
          <a:bodyPr/>
          <a:p>
            <a:fld id="{487CAB81-C157-44F7-8FDC-B6E6673865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3"/>
          </p:nvPr>
        </p:nvSpPr>
        <p:spPr/>
        <p:txBody>
          <a:bodyPr/>
          <a:p>
            <a:fld id="{9466780A-24F2-4775-9DEE-61C9D66D32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9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3"/>
          </p:nvPr>
        </p:nvSpPr>
        <p:spPr/>
        <p:txBody>
          <a:bodyPr/>
          <a:p>
            <a:fld id="{9DEC4935-A271-4316-B288-8AF56F05ED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5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3"/>
          </p:nvPr>
        </p:nvSpPr>
        <p:spPr/>
        <p:txBody>
          <a:bodyPr/>
          <a:p>
            <a:fld id="{3C37297B-A4ED-4DF1-ACB9-E0B2312239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0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3"/>
          </p:nvPr>
        </p:nvSpPr>
        <p:spPr/>
        <p:txBody>
          <a:bodyPr/>
          <a:p>
            <a:fld id="{1FBF5287-9616-4BDD-8B32-19E67905AAA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80E6C-FE88-4277-98B4-3D2705B91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1A18C-2F13-49CB-B5DA-D0003C4A4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9E09B-1904-4287-B547-5029BEB65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E5E9A-3603-4007-9E72-3A840A632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2A3D1-538D-4C2A-A3B0-5EEF3B89B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DB89C-5225-4788-907E-91636335E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6EB55-7D3C-4E04-BF10-E503C9723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F3F1D-6DEF-4B96-A46C-61B33CCA9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159D9-F4C4-4810-8504-64960F717E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41AFB2-5CB3-4501-8CB8-6BA6187F0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FD5CFA-4F7B-418D-94C2-BEDEAA750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D4D0A85-6813-4536-BAFD-84C73133EAC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1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45FF68E-1AD0-4249-8E98-4102D522900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D6BED7-85DB-4C40-90BA-C043B34FBA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931C332-62CD-411B-B80B-4C333640FF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0FC868-E928-4100-865E-059E85E0A1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45CD9-73BF-4753-89CA-D8D860DAD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B64BB68-99A9-442F-BDDE-9026FFCBEE9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D300F82-FD57-4EEE-9081-93211FA052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0B37F5-CEF6-451A-954B-CA3431D2F48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4D737F-FA0F-4262-98BE-91DD4B4FD0F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3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F79373-4CDB-4A6A-9E52-A2AE370A43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2DB7C10-2230-45E9-9DA0-E1DE4FF9FAC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4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91A97B3-3607-45FC-8E41-984FA5710E9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1"/>
          </p:nvPr>
        </p:nvSpPr>
        <p:spPr/>
        <p:txBody>
          <a:bodyPr/>
          <a:p>
            <a:fld id="{94EDF330-2D2B-4DAB-BF2C-961471740F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6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1"/>
          </p:nvPr>
        </p:nvSpPr>
        <p:spPr/>
        <p:txBody>
          <a:bodyPr/>
          <a:p>
            <a:fld id="{46F4AF60-8FC7-4558-A8CE-C3099C9F6A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7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1"/>
          </p:nvPr>
        </p:nvSpPr>
        <p:spPr/>
        <p:txBody>
          <a:bodyPr/>
          <a:p>
            <a:fld id="{1B9EC596-5FB8-4ECD-8AC6-13C5741462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A7496-3F7E-4924-8BB3-22D7CFFAA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1"/>
          </p:nvPr>
        </p:nvSpPr>
        <p:spPr/>
        <p:txBody>
          <a:bodyPr/>
          <a:p>
            <a:fld id="{6ADC9210-6EEB-4D9E-B618-9246B5E009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1"/>
          </p:nvPr>
        </p:nvSpPr>
        <p:spPr/>
        <p:txBody>
          <a:bodyPr/>
          <a:p>
            <a:fld id="{C3FAD9A0-CE37-4771-A212-B2ACA9049F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1"/>
          </p:nvPr>
        </p:nvSpPr>
        <p:spPr/>
        <p:txBody>
          <a:bodyPr/>
          <a:p>
            <a:fld id="{314FC185-0750-4A68-A025-591EB15B0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1"/>
          </p:nvPr>
        </p:nvSpPr>
        <p:spPr/>
        <p:txBody>
          <a:bodyPr/>
          <a:p>
            <a:fld id="{A075CB43-2D27-4AEF-BB55-1F7F2AC64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1"/>
          </p:nvPr>
        </p:nvSpPr>
        <p:spPr/>
        <p:txBody>
          <a:bodyPr/>
          <a:p>
            <a:fld id="{1075AFF0-690C-4449-A555-2E9D9EF00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1"/>
          </p:nvPr>
        </p:nvSpPr>
        <p:spPr/>
        <p:txBody>
          <a:bodyPr/>
          <a:p>
            <a:fld id="{EE9B9E60-9531-4A25-BB56-802C8E9A5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8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1"/>
          </p:nvPr>
        </p:nvSpPr>
        <p:spPr/>
        <p:txBody>
          <a:bodyPr/>
          <a:p>
            <a:fld id="{B445CE0C-F114-40D4-AAE6-9189F2DDFA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1"/>
          </p:nvPr>
        </p:nvSpPr>
        <p:spPr/>
        <p:txBody>
          <a:bodyPr/>
          <a:p>
            <a:fld id="{F885E532-F809-4011-B1B8-6B45E63667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19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1"/>
          </p:nvPr>
        </p:nvSpPr>
        <p:spPr/>
        <p:txBody>
          <a:bodyPr/>
          <a:p>
            <a:fld id="{DB1BB83C-CD1A-4618-A42A-D95B602968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4268767-5CA0-4B6E-8429-AF84671CE5B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7E8A7-8E91-4ABC-AE01-9B8677BE1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C5225D6-E026-4657-978E-A12FB802AE4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5C6CCCF-D7F8-472B-8DCC-F0DAF0E0861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114ED11-A2E5-4F2E-BB61-AA251EC67B7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C210212-1D5F-4718-92E8-AE8D654CC6B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3129FA-6A64-4881-84CE-E024972F594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A312F25-34F6-4BAF-902E-7C62AB755A6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8267A5B-3932-48ED-AF5C-9ABFB5E8008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F77A7F-3DA3-4303-BBEC-8D541952DC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8C42D3-8C87-4F38-B74F-11B6021D34F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1DE43B5-1DE3-4016-932E-AF28ADDEBF1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3F06F-F7D1-4874-9F95-9A0329316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10FC0B0-9B03-4019-A1FF-ED30ED44AC4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B54A2A3-3451-4157-9A1E-B059A97D3D0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07FBCC2-21B4-4A87-83A7-4EF94A36E99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89126D4-16BB-49F7-9F1A-D74F49605E1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EFFEA0B-1698-4E64-8636-F032699493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50F2824-4871-4EDA-965F-0AD32F2D098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52B1D73-680D-4CD6-9FD1-A798C818A91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96B519E-267A-45E5-908A-886C4D8418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00B76BE-853D-4A8A-8B38-3EF6391ADAA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D4572E6-29AA-477F-B772-93E9962A0F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E18E2-E726-4049-B753-2F9AD8272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44A6165-CC1B-4FFC-8BE5-5BCE47D4B57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D227ABE-9C2D-486F-B7B7-AD442C0A1DD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BBC9988-A35B-4C70-81B1-AB29745DA65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F30A06A-BADE-42EC-8D1D-65BCF0CDE75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63F04C8-2F67-46DC-98CD-08374118C17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002C56B-FA31-491D-83DE-14786A4FA98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5D01892-BC55-4038-A14F-BA5F14253EA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755EF25-7768-402E-9CF9-474AD124FF3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0616787-DF5E-4C3B-AC1F-8E92B389E46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A6B2B2B-0284-42B9-AD24-6B016C81D67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98338-202F-4848-BA0B-A5E1C06DB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17934DD-BB65-4C28-A3FB-DB8F6820D39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DC502AD-94EC-4BBE-A886-DB86D67B77A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F0CDF78-77FD-414F-99A1-22EE4B62F54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FB2E7B0-7AA0-41FC-A042-F1CA95E1626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78DF098-32CA-404C-8BA3-4867C3B1880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F44329A-136C-46F8-AC6D-2493DF51EB9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6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905534F-9E31-47E5-96BD-AE2F1653C22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7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B521E67-AACB-44DA-8510-DEBA520240E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EBAF0FD-9749-42CD-800D-2249A78747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460E431-CD6D-427A-9FAC-36A0DBAC72D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22055-2C5A-4A8E-8788-2312B7801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3E9CFEE-1DB1-4224-BC78-7FBA09FFBF0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3F5B7F1-2A1A-4DB8-B827-D21B4CBFC4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D5A5FC7-8B59-4D77-A7F2-180A6D98A71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20699A9-6389-4B23-9245-D6A4C77364D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8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8BB3244-F8DD-4721-A616-2D9BB5C244D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25F5208-0C35-4662-A2FD-2BD719D6CAF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39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F78FCE8-912C-46FF-8035-4D9DE176F57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4"/>
          </p:nvPr>
        </p:nvSpPr>
        <p:spPr/>
        <p:txBody>
          <a:bodyPr/>
          <a:p>
            <a:fld id="{B8E5251D-7156-4B7E-A052-DEF70953CB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4"/>
          </p:nvPr>
        </p:nvSpPr>
        <p:spPr/>
        <p:txBody>
          <a:bodyPr/>
          <a:p>
            <a:fld id="{7E4D4EF8-7B11-473A-94A3-CD66683FE2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c438f"/>
              </a:solidFill>
              <a:latin typeface="Georgia"/>
            </a:endParaRPr>
          </a:p>
        </p:txBody>
      </p:sp>
      <p:sp>
        <p:nvSpPr>
          <p:cNvPr id="4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4"/>
          </p:nvPr>
        </p:nvSpPr>
        <p:spPr/>
        <p:txBody>
          <a:bodyPr/>
          <a:p>
            <a:fld id="{4D882A16-0D39-45C5-85B7-6106E6CED5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Rectángulo"/>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26C6-09CF-4AA8-B8CD-77F72DD2EA2B}" type="datetime">
              <a:rPr b="0" lang="es-AR"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Rectángulo"/>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Conector recto"/>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14 Elipse"/>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c438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CBB6F-D62F-4B2F-8FE0-D4F9C8DC3A82}" type="slidenum">
              <a:rPr b="0" lang="es-AR" sz="1600" spc="-1" strike="noStrike">
                <a:solidFill>
                  <a:srgbClr val="8c438f"/>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19 Conector recto"/>
          <p:cNvSpPr/>
          <p:nvPr/>
        </p:nvSpPr>
        <p:spPr>
          <a:xfrm>
            <a:off x="152280" y="53352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5 Rectángulo"/>
          <p:cNvSpPr/>
          <p:nvPr/>
        </p:nvSpPr>
        <p:spPr>
          <a:xfrm>
            <a:off x="152280" y="152280"/>
            <a:ext cx="8832960" cy="30168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6 Rectángulo"/>
          <p:cNvSpPr/>
          <p:nvPr/>
        </p:nvSpPr>
        <p:spPr>
          <a:xfrm>
            <a:off x="152280" y="609480"/>
            <a:ext cx="2743200" cy="586764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7 Rectángulo"/>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29 Elipse"/>
          <p:cNvSpPr/>
          <p:nvPr/>
        </p:nvSpPr>
        <p:spPr>
          <a:xfrm>
            <a:off x="1390680" y="324000"/>
            <a:ext cx="419040" cy="4190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30 Rectángulo"/>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46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8" name="PlaceHolder 3"/>
          <p:cNvSpPr>
            <a:spLocks noGrp="1"/>
          </p:cNvSpPr>
          <p:nvPr>
            <p:ph type="sldNum" idx="27"/>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c438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690B6-751A-4508-B39D-C4915A6C2566}" type="slidenum">
              <a:rPr b="0" lang="es-AR" sz="1600" spc="-1" strike="noStrike">
                <a:solidFill>
                  <a:srgbClr val="8c438f"/>
                </a:solidFill>
                <a:latin typeface="Georgia"/>
              </a:rPr>
              <a:t>&lt;number&gt;</a:t>
            </a:fld>
            <a:endParaRPr b="0" lang="en-US" sz="1600" spc="-1" strike="noStrike">
              <a:solidFill>
                <a:srgbClr val="000000"/>
              </a:solidFill>
              <a:latin typeface="Times New Roman"/>
            </a:endParaRPr>
          </a:p>
        </p:txBody>
      </p:sp>
      <p:sp>
        <p:nvSpPr>
          <p:cNvPr id="469" name="PlaceHolder 4"/>
          <p:cNvSpPr>
            <a:spLocks noGrp="1"/>
          </p:cNvSpPr>
          <p:nvPr>
            <p:ph type="dt" idx="28"/>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B750-55CD-42CC-B15F-9035A520BD6E}" type="datetime">
              <a:rPr b="0" lang="es-AR"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470" name="PlaceHolder 5"/>
          <p:cNvSpPr>
            <a:spLocks noGrp="1"/>
          </p:cNvSpPr>
          <p:nvPr>
            <p:ph type="ftr" idx="29"/>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507"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8 Rectángulo"/>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7 Rectángulo"/>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9 Conector recto"/>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14 Elipse"/>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51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8" name="PlaceHolder 3"/>
          <p:cNvSpPr>
            <a:spLocks noGrp="1"/>
          </p:cNvSpPr>
          <p:nvPr>
            <p:ph type="dt" idx="3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FD92-F66D-4D36-9656-85DE12271670}" type="datetime">
              <a:rPr b="0" lang="es-AR"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519" name="PlaceHolder 4"/>
          <p:cNvSpPr>
            <a:spLocks noGrp="1"/>
          </p:cNvSpPr>
          <p:nvPr>
            <p:ph type="ftr" idx="3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32"/>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c438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ED40-F7E9-4826-9C47-8BB74D37B051}" type="slidenum">
              <a:rPr b="0" lang="es-AR" sz="1600" spc="-1" strike="noStrike">
                <a:solidFill>
                  <a:srgbClr val="8c438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557"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1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4 Rectángulo"/>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5 Rectángulo"/>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26 Conector recto"/>
          <p:cNvSpPr/>
          <p:nvPr/>
        </p:nvSpPr>
        <p:spPr>
          <a:xfrm>
            <a:off x="7143840" y="155520"/>
            <a:ext cx="0" cy="624528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4" name="27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28 Elipse"/>
          <p:cNvSpPr/>
          <p:nvPr/>
        </p:nvSpPr>
        <p:spPr>
          <a:xfrm>
            <a:off x="6934320" y="3021120"/>
            <a:ext cx="420480" cy="4190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56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8" name="PlaceHolder 3"/>
          <p:cNvSpPr>
            <a:spLocks noGrp="1"/>
          </p:cNvSpPr>
          <p:nvPr>
            <p:ph type="sldNum" idx="33"/>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c438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57D7B-6846-4BD6-8BA1-ED1687FCA220}" type="slidenum">
              <a:rPr b="0" lang="es-AR" sz="1600" spc="-1" strike="noStrike">
                <a:solidFill>
                  <a:srgbClr val="8c438f"/>
                </a:solidFill>
                <a:latin typeface="Georgia"/>
              </a:rPr>
              <a:t>&lt;number&gt;</a:t>
            </a:fld>
            <a:endParaRPr b="0" lang="en-US" sz="1600" spc="-1" strike="noStrike">
              <a:solidFill>
                <a:srgbClr val="000000"/>
              </a:solidFill>
              <a:latin typeface="Times New Roman"/>
            </a:endParaRPr>
          </a:p>
        </p:txBody>
      </p:sp>
      <p:sp>
        <p:nvSpPr>
          <p:cNvPr id="569" name="PlaceHolder 4"/>
          <p:cNvSpPr>
            <a:spLocks noGrp="1"/>
          </p:cNvSpPr>
          <p:nvPr>
            <p:ph type="dt" idx="3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856A-DC6E-445A-A3EB-7FBE7C8206ED}" type="datetime">
              <a:rPr b="0" lang="es-AR"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570" name="PlaceHolder 5"/>
          <p:cNvSpPr>
            <a:spLocks noGrp="1"/>
          </p:cNvSpPr>
          <p:nvPr>
            <p:ph type="ftr" idx="3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21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3 Rectángulo"/>
          <p:cNvSpPr/>
          <p:nvPr/>
        </p:nvSpPr>
        <p:spPr>
          <a:xfrm>
            <a:off x="0" y="0"/>
            <a:ext cx="914400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24 Rectángulo"/>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5 Conector recto"/>
          <p:cNvSpPr/>
          <p:nvPr/>
        </p:nvSpPr>
        <p:spPr>
          <a:xfrm>
            <a:off x="155520" y="457200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26 Rectángulo"/>
          <p:cNvSpPr/>
          <p:nvPr/>
        </p:nvSpPr>
        <p:spPr>
          <a:xfrm>
            <a:off x="152280" y="15228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7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8 Elipse"/>
          <p:cNvSpPr/>
          <p:nvPr/>
        </p:nvSpPr>
        <p:spPr>
          <a:xfrm>
            <a:off x="4362480" y="4357800"/>
            <a:ext cx="419040" cy="42048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A178-3DAF-4654-BC8A-EB817DABB96E}" type="datetime">
              <a:rPr b="0" lang="es-AR"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4344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c438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5657-02D2-4CEB-9D05-6A67E58399B9}" type="slidenum">
              <a:rPr b="0" lang="es-AR" sz="1600" spc="-1" strike="noStrike">
                <a:solidFill>
                  <a:srgbClr val="8c438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 Rectángulo"/>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7 Rectángulo"/>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9 Conector recto"/>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4 Elipse"/>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19 Elipse"/>
          <p:cNvSpPr/>
          <p:nvPr/>
        </p:nvSpPr>
        <p:spPr>
          <a:xfrm>
            <a:off x="4286160" y="1000080"/>
            <a:ext cx="571680" cy="500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20 Rectángulo"/>
          <p:cNvSpPr/>
          <p:nvPr/>
        </p:nvSpPr>
        <p:spPr>
          <a:xfrm>
            <a:off x="142920" y="1214280"/>
            <a:ext cx="8858160" cy="71640"/>
          </a:xfrm>
          <a:prstGeom prst="rect">
            <a:avLst/>
          </a:prstGeom>
          <a:solidFill>
            <a:srgbClr val="a04da3"/>
          </a:solidFill>
          <a:ln w="11520">
            <a:solidFill>
              <a:srgbClr val="a6a6a6"/>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11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3" name="PlaceHolder 3"/>
          <p:cNvSpPr>
            <a:spLocks noGrp="1"/>
          </p:cNvSpPr>
          <p:nvPr>
            <p:ph type="ftr" idx="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type="sldNum" idx="8"/>
          </p:nvPr>
        </p:nvSpPr>
        <p:spPr>
          <a:xfrm>
            <a:off x="8615520" y="63453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000" spc="-1" strike="noStrike">
                <a:solidFill>
                  <a:srgbClr val="000000"/>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A38B-8ABA-4BB8-9FC8-9FA6704CED4B}" type="slidenum">
              <a:rPr b="1" lang="es-AR" sz="1000" spc="-1" strike="noStrike">
                <a:solidFill>
                  <a:srgbClr val="000000"/>
                </a:solidFill>
                <a:latin typeface="Georgi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21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3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4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5 Rectángulo"/>
          <p:cNvSpPr/>
          <p:nvPr/>
        </p:nvSpPr>
        <p:spPr>
          <a:xfrm>
            <a:off x="155520" y="142920"/>
            <a:ext cx="8832960" cy="2139840"/>
          </a:xfrm>
          <a:prstGeom prst="rect">
            <a:avLst/>
          </a:prstGeom>
          <a:solidFill>
            <a:srgbClr val="53548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6 Rectángulo"/>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27 Rectángulo"/>
          <p:cNvSpPr/>
          <p:nvPr/>
        </p:nvSpPr>
        <p:spPr>
          <a:xfrm>
            <a:off x="152280" y="15228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28 Conector recto"/>
          <p:cNvSpPr/>
          <p:nvPr/>
        </p:nvSpPr>
        <p:spPr>
          <a:xfrm>
            <a:off x="152280" y="243828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29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30 Elipse"/>
          <p:cNvSpPr/>
          <p:nvPr/>
        </p:nvSpPr>
        <p:spPr>
          <a:xfrm>
            <a:off x="4362480" y="220968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1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4" name="PlaceHolder 3"/>
          <p:cNvSpPr>
            <a:spLocks noGrp="1"/>
          </p:cNvSpPr>
          <p:nvPr>
            <p:ph type="ftr" idx="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dt" idx="1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5F9C-90B5-4CC8-A114-2E1441EC4DAE}" type="datetime">
              <a:rPr b="0" lang="es-AR"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166" name="PlaceHolder 5"/>
          <p:cNvSpPr>
            <a:spLocks noGrp="1"/>
          </p:cNvSpPr>
          <p:nvPr>
            <p:ph type="sldNum" idx="11"/>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c438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7637-8D80-41BC-8937-1600A09FE2CB}" type="slidenum">
              <a:rPr b="0" lang="es-AR" sz="1600" spc="-1" strike="noStrike">
                <a:solidFill>
                  <a:srgbClr val="8c438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203"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8 Rectángulo"/>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7 Rectángulo"/>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9 Conector recto"/>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4 Elipse"/>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9 Conector recto"/>
          <p:cNvSpPr/>
          <p:nvPr/>
        </p:nvSpPr>
        <p:spPr>
          <a:xfrm flipV="1">
            <a:off x="4562640" y="1576080"/>
            <a:ext cx="9360" cy="4817880"/>
          </a:xfrm>
          <a:prstGeom prst="line">
            <a:avLst/>
          </a:prstGeom>
          <a:ln w="9360">
            <a:solidFill>
              <a:srgbClr val="42445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2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5" name="PlaceHolder 3"/>
          <p:cNvSpPr>
            <a:spLocks noGrp="1"/>
          </p:cNvSpPr>
          <p:nvPr>
            <p:ph type="dt" idx="12"/>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4505-5779-4D40-9113-E991293390AC}" type="datetime">
              <a:rPr b="0" lang="es-AR"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216" name="PlaceHolder 4"/>
          <p:cNvSpPr>
            <a:spLocks noGrp="1"/>
          </p:cNvSpPr>
          <p:nvPr>
            <p:ph type="ftr" idx="1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4"/>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c438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D9C4-38C8-47B7-B727-1950EBE090E9}" type="slidenum">
              <a:rPr b="0" lang="es-AR" sz="1600" spc="-1" strike="noStrike">
                <a:solidFill>
                  <a:srgbClr val="8c438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254" name="19 Conector recto"/>
          <p:cNvSpPr/>
          <p:nvPr/>
        </p:nvSpPr>
        <p:spPr>
          <a:xfrm flipV="1">
            <a:off x="4572000" y="2199960"/>
            <a:ext cx="0" cy="4187880"/>
          </a:xfrm>
          <a:prstGeom prst="line">
            <a:avLst/>
          </a:prstGeom>
          <a:ln w="9360">
            <a:solidFill>
              <a:srgbClr val="42445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1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4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5 Rectángulo"/>
          <p:cNvSpPr/>
          <p:nvPr/>
        </p:nvSpPr>
        <p:spPr>
          <a:xfrm>
            <a:off x="152280" y="1371600"/>
            <a:ext cx="8832960" cy="91440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26 Rectángulo"/>
          <p:cNvSpPr/>
          <p:nvPr/>
        </p:nvSpPr>
        <p:spPr>
          <a:xfrm>
            <a:off x="146160" y="6391440"/>
            <a:ext cx="8832600" cy="3110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27 Conector recto"/>
          <p:cNvSpPr/>
          <p:nvPr/>
        </p:nvSpPr>
        <p:spPr>
          <a:xfrm>
            <a:off x="152280" y="127944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28 Rectángulo"/>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29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30 Elipse"/>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2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7" name="PlaceHolder 3"/>
          <p:cNvSpPr>
            <a:spLocks noGrp="1"/>
          </p:cNvSpPr>
          <p:nvPr>
            <p:ph type="dt" idx="1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22CA-3374-48CB-A39E-98C1AA174EF6}" type="datetime">
              <a:rPr b="0" lang="es-AR"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268" name="PlaceHolder 4"/>
          <p:cNvSpPr>
            <a:spLocks noGrp="1"/>
          </p:cNvSpPr>
          <p:nvPr>
            <p:ph type="ftr" idx="16"/>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17"/>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c438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29B2-4B11-416E-A021-FBC70F7E96CC}" type="slidenum">
              <a:rPr b="0" lang="es-AR" sz="1600" spc="-1" strike="noStrike">
                <a:solidFill>
                  <a:srgbClr val="8c438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8 Rectángulo"/>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7 Rectángulo"/>
          <p:cNvSpPr/>
          <p:nvPr/>
        </p:nvSpPr>
        <p:spPr>
          <a:xfrm>
            <a:off x="152280" y="15552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9 Conector recto"/>
          <p:cNvSpPr/>
          <p:nvPr/>
        </p:nvSpPr>
        <p:spPr>
          <a:xfrm>
            <a:off x="152280" y="1276200"/>
            <a:ext cx="8832960" cy="0"/>
          </a:xfrm>
          <a:prstGeom prst="line">
            <a:avLst/>
          </a:prstGeom>
          <a:ln w="936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14 Elipse"/>
          <p:cNvSpPr/>
          <p:nvPr/>
        </p:nvSpPr>
        <p:spPr>
          <a:xfrm>
            <a:off x="4362480" y="1050840"/>
            <a:ext cx="419040" cy="4208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3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7" name="PlaceHolder 3"/>
          <p:cNvSpPr>
            <a:spLocks noGrp="1"/>
          </p:cNvSpPr>
          <p:nvPr>
            <p:ph type="dt" idx="1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FF47-CE12-4F3F-AE1D-B9F27AA922DC}" type="datetime">
              <a:rPr b="0" lang="es-AR"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318" name="PlaceHolder 4"/>
          <p:cNvSpPr>
            <a:spLocks noGrp="1"/>
          </p:cNvSpPr>
          <p:nvPr>
            <p:ph type="ftr" idx="1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c438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8228-8206-4FFA-898B-031E9CF3DA7B}" type="slidenum">
              <a:rPr b="0" lang="es-AR" sz="1600" spc="-1" strike="noStrike">
                <a:solidFill>
                  <a:srgbClr val="8c438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24 Rectángulo"/>
          <p:cNvSpPr/>
          <p:nvPr/>
        </p:nvSpPr>
        <p:spPr>
          <a:xfrm>
            <a:off x="146160" y="6391440"/>
            <a:ext cx="8832600" cy="30924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25 Rectángulo"/>
          <p:cNvSpPr/>
          <p:nvPr/>
        </p:nvSpPr>
        <p:spPr>
          <a:xfrm>
            <a:off x="152280" y="15876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3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4" name="PlaceHolder 3"/>
          <p:cNvSpPr>
            <a:spLocks noGrp="1"/>
          </p:cNvSpPr>
          <p:nvPr>
            <p:ph type="dt" idx="2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1A810-089E-4862-B580-33D2FCC0F268}" type="datetime">
              <a:rPr b="0" lang="es-AR"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365" name="PlaceHolder 4"/>
          <p:cNvSpPr>
            <a:spLocks noGrp="1"/>
          </p:cNvSpPr>
          <p:nvPr>
            <p:ph type="ftr" idx="2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3"/>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2E0C-BF2F-45FA-9C22-345FD1EBAEFA}" type="slidenum">
              <a:rPr b="0" lang="es-AR"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19 Rectángulo"/>
          <p:cNvSpPr/>
          <p:nvPr/>
        </p:nvSpPr>
        <p:spPr>
          <a:xfrm>
            <a:off x="152280" y="152280"/>
            <a:ext cx="8832960" cy="30492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1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3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5 Rectángulo"/>
          <p:cNvSpPr/>
          <p:nvPr/>
        </p:nvSpPr>
        <p:spPr>
          <a:xfrm>
            <a:off x="152280" y="609480"/>
            <a:ext cx="2743200" cy="5867640"/>
          </a:xfrm>
          <a:prstGeom prst="rect">
            <a:avLst/>
          </a:prstGeom>
          <a:solidFill>
            <a:srgbClr val="5354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6 Rectángulo"/>
          <p:cNvSpPr/>
          <p:nvPr/>
        </p:nvSpPr>
        <p:spPr>
          <a:xfrm>
            <a:off x="152280" y="152280"/>
            <a:ext cx="8832960" cy="6546960"/>
          </a:xfrm>
          <a:prstGeom prst="rect">
            <a:avLst/>
          </a:prstGeom>
          <a:noFill/>
          <a:ln w="9360">
            <a:solidFill>
              <a:srgbClr val="8c438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27 Conector recto"/>
          <p:cNvSpPr/>
          <p:nvPr/>
        </p:nvSpPr>
        <p:spPr>
          <a:xfrm>
            <a:off x="152280" y="533520"/>
            <a:ext cx="8832960" cy="0"/>
          </a:xfrm>
          <a:prstGeom prst="line">
            <a:avLst/>
          </a:prstGeom>
          <a:ln w="11520">
            <a:solidFill>
              <a:srgbClr val="8c438f"/>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28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29 Elipse"/>
          <p:cNvSpPr/>
          <p:nvPr/>
        </p:nvSpPr>
        <p:spPr>
          <a:xfrm>
            <a:off x="1390680" y="324000"/>
            <a:ext cx="419040" cy="419040"/>
          </a:xfrm>
          <a:prstGeom prst="ellipse">
            <a:avLst/>
          </a:prstGeom>
          <a:solidFill>
            <a:srgbClr val="ffffff"/>
          </a:solidFill>
          <a:ln cap="rnd" w="50760">
            <a:solidFill>
              <a:srgbClr val="8c43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30 Rectángulo"/>
          <p:cNvSpPr/>
          <p:nvPr/>
        </p:nvSpPr>
        <p:spPr>
          <a:xfrm>
            <a:off x="149400" y="6388200"/>
            <a:ext cx="8832600" cy="309600"/>
          </a:xfrm>
          <a:prstGeom prst="rect">
            <a:avLst/>
          </a:prstGeom>
          <a:solidFill>
            <a:srgbClr val="a04da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c438f"/>
                </a:solidFill>
                <a:latin typeface="Georgia"/>
              </a:rPr>
              <a:t>Click to edit the title text format</a:t>
            </a:r>
            <a:endParaRPr b="0" lang="en-US" sz="3300" spc="-1" strike="noStrike">
              <a:solidFill>
                <a:srgbClr val="8c438f"/>
              </a:solidFill>
              <a:latin typeface="Georgia"/>
            </a:endParaRPr>
          </a:p>
        </p:txBody>
      </p:sp>
      <p:sp>
        <p:nvSpPr>
          <p:cNvPr id="4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43808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a04da3"/>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c4652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b5d3d"/>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6" name="PlaceHolder 3"/>
          <p:cNvSpPr>
            <a:spLocks noGrp="1"/>
          </p:cNvSpPr>
          <p:nvPr>
            <p:ph type="sldNum" idx="24"/>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8c438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C14E-B0A6-44BC-A172-55AC36FD90E6}" type="slidenum">
              <a:rPr b="0" lang="es-AR" sz="1600" spc="-1" strike="noStrike">
                <a:solidFill>
                  <a:srgbClr val="8c438f"/>
                </a:solidFill>
                <a:latin typeface="Georgia"/>
              </a:rPr>
              <a:t>&lt;number&gt;</a:t>
            </a:fld>
            <a:endParaRPr b="0" lang="en-US" sz="1600" spc="-1" strike="noStrike">
              <a:solidFill>
                <a:srgbClr val="000000"/>
              </a:solidFill>
              <a:latin typeface="Times New Roman"/>
            </a:endParaRPr>
          </a:p>
        </p:txBody>
      </p:sp>
      <p:sp>
        <p:nvSpPr>
          <p:cNvPr id="417" name="PlaceHolder 4"/>
          <p:cNvSpPr>
            <a:spLocks noGrp="1"/>
          </p:cNvSpPr>
          <p:nvPr>
            <p:ph type="dt" idx="2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3D47-BD47-4877-AC0E-517D69236470}" type="datetime">
              <a:rPr b="0" lang="es-AR" sz="1400" spc="-1" strike="noStrike">
                <a:solidFill>
                  <a:srgbClr val="ffffff"/>
                </a:solidFill>
                <a:latin typeface="Georgia"/>
              </a:rPr>
              <a:t>28/07/26</a:t>
            </a:fld>
            <a:endParaRPr b="0" lang="en-US" sz="1400" spc="-1" strike="noStrike">
              <a:solidFill>
                <a:srgbClr val="000000"/>
              </a:solidFill>
              <a:latin typeface="Times New Roman"/>
            </a:endParaRPr>
          </a:p>
        </p:txBody>
      </p:sp>
      <p:sp>
        <p:nvSpPr>
          <p:cNvPr id="418" name="PlaceHolder 5"/>
          <p:cNvSpPr>
            <a:spLocks noGrp="1"/>
          </p:cNvSpPr>
          <p:nvPr>
            <p:ph type="ftr" idx="26"/>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ubTitle"/>
          </p:nvPr>
        </p:nvSpPr>
        <p:spPr>
          <a:xfrm>
            <a:off x="1571760" y="4714920"/>
            <a:ext cx="6400800" cy="714240"/>
          </a:xfrm>
          <a:prstGeom prst="rect">
            <a:avLst/>
          </a:prstGeom>
          <a:noFill/>
          <a:ln w="0">
            <a:noFill/>
          </a:ln>
        </p:spPr>
        <p: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HUMBERTO J. BERTAZZA</a:t>
            </a:r>
            <a:endParaRPr b="0" lang="en-US" sz="2400" spc="-1" strike="noStrike">
              <a:solidFill>
                <a:srgbClr val="000000"/>
              </a:solidFill>
              <a:latin typeface="Georgia"/>
            </a:endParaRPr>
          </a:p>
        </p:txBody>
      </p:sp>
      <p:sp>
        <p:nvSpPr>
          <p:cNvPr id="608" name="PlaceHolder 2"/>
          <p:cNvSpPr>
            <a:spLocks noGrp="1"/>
          </p:cNvSpPr>
          <p:nvPr>
            <p:ph type="title"/>
          </p:nvPr>
        </p:nvSpPr>
        <p:spPr>
          <a:xfrm>
            <a:off x="685800" y="785520"/>
            <a:ext cx="7772400" cy="3143160"/>
          </a:xfrm>
          <a:prstGeom prst="rect">
            <a:avLst/>
          </a:prstGeom>
          <a:solidFill>
            <a:srgbClr val="deded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600" spc="-1" strike="noStrike">
                <a:solidFill>
                  <a:srgbClr val="000000"/>
                </a:solidFill>
                <a:latin typeface="Georgia"/>
              </a:rPr>
              <a:t>RESEÑA DE JURISPRUDENCIA</a:t>
            </a:r>
            <a:endParaRPr b="0" lang="en-US" sz="6600" spc="-1" strike="noStrike">
              <a:solidFill>
                <a:srgbClr val="8c438f"/>
              </a:solidFill>
              <a:latin typeface="Georgia"/>
            </a:endParaRPr>
          </a:p>
        </p:txBody>
      </p:sp>
      <p:sp>
        <p:nvSpPr>
          <p:cNvPr id="609" name="2 Subtítulo"/>
          <p:cNvSpPr/>
          <p:nvPr/>
        </p:nvSpPr>
        <p:spPr>
          <a:xfrm>
            <a:off x="714240" y="5572080"/>
            <a:ext cx="1785960" cy="714600"/>
          </a:xfrm>
          <a:prstGeom prst="rect">
            <a:avLst/>
          </a:prstGeom>
          <a:solidFill>
            <a:srgbClr val="ffffff"/>
          </a:solidFill>
          <a:ln w="11520">
            <a:solidFill>
              <a:srgbClr val="438086"/>
            </a:solidFill>
            <a:prstDash val="sysDash"/>
            <a:miter/>
          </a:ln>
        </p:spPr>
        <p:style>
          <a:lnRef idx="0"/>
          <a:fillRef idx="0"/>
          <a:effectRef idx="0"/>
          <a:fontRef idx="minor"/>
        </p:style>
        <p: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11-04-12</a:t>
            </a:r>
            <a:endParaRPr b="0" lang="en-US" sz="20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Incumplimiento debida registración de alta y/o baja de trabajadores ocupados. Multa. Confirmación validez del régimen de graduación de sanciones. RG 1566 (IV)</a:t>
            </a:r>
            <a:endParaRPr b="0" lang="en-US" sz="2400" spc="-1" strike="noStrike">
              <a:solidFill>
                <a:srgbClr val="8c438f"/>
              </a:solidFill>
              <a:latin typeface="Georgia"/>
            </a:endParaRPr>
          </a:p>
        </p:txBody>
      </p:sp>
      <p:sp>
        <p:nvSpPr>
          <p:cNvPr id="635" name=""/>
          <p:cNvSpPr txBox="1"/>
          <p:nvPr/>
        </p:nvSpPr>
        <p:spPr>
          <a:xfrm>
            <a:off x="142920" y="1285560"/>
            <a:ext cx="8858160" cy="5072040"/>
          </a:xfrm>
          <a:prstGeom prst="rect">
            <a:avLst/>
          </a:prstGeom>
          <a:noFill/>
          <a:ln w="0">
            <a:noFill/>
          </a:ln>
        </p:spPr>
        <p:txBody>
          <a:bodyPr anchor="t">
            <a:normAutofit fontScale="94000"/>
          </a:bodyPr>
          <a:p>
            <a:pPr marL="168480" indent="-1684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Corresponde establecer que el régimen de graduación de sanciones dispuesto por la Administración Federal de Ingresos Públicos por el capítulo J de la resolución mencionada no resulta vinculante para el órgano jurisdiccional, pues el régimen sancionatorio aplicable a las infracciones al artículo agregado sin número a continuación del artículo 40 de la ley 11.683 es el establecido expresamente por aquel artículo.</a:t>
            </a:r>
            <a:endParaRPr b="0" lang="en-US" sz="1400" spc="-1" strike="noStrike">
              <a:solidFill>
                <a:srgbClr val="000000"/>
              </a:solidFill>
              <a:latin typeface="Georgia"/>
            </a:endParaRPr>
          </a:p>
          <a:p>
            <a:pPr marL="168480" indent="-1684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	</a:t>
            </a:r>
            <a:r>
              <a:rPr b="0" lang="es-AR" sz="1400" spc="-1" strike="noStrike">
                <a:solidFill>
                  <a:srgbClr val="000000"/>
                </a:solidFill>
                <a:latin typeface="Georgia"/>
              </a:rPr>
              <a:t>En efecto, la Administración Federal de Ingresos Públicos carece de facultades para disponer las sanciones jurisdiccionalmente aplicables por las infracciones dispuestas por una ley del Congreso de la Nación, así como también para modificar las escalas sancionatorias establecidas expresamente por el legislador (art. 18 de la Constitución Nacional).</a:t>
            </a:r>
            <a:endParaRPr b="0" lang="en-US" sz="1400" spc="-1" strike="noStrike">
              <a:solidFill>
                <a:srgbClr val="000000"/>
              </a:solidFill>
              <a:latin typeface="Georgia"/>
            </a:endParaRPr>
          </a:p>
          <a:p>
            <a:pPr marL="168480" indent="-1684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n este sentido, se advierte que mediante el dictado de la R.G. N° 1566 (texto sustituido en 2004) la Administración Federal de Ingresos Públicos excedió las atribuciones conferidas a aquélla por la ley 11.683 y por el art. 7o del decreto 618/97 -invocado por la resolución mencionada-, pues por el capítulo J de la resolución en cuestión se modificó lo establecido por el artículo agregado sin número a continuación del artículo 40 de la ley 11.683 al establecerse un "quantum " determinado para las sanciones aplicables a las infracciones a la norma mencionada, marginándose la escala sancionatoria prevista por el legislador. </a:t>
            </a:r>
            <a:endParaRPr b="0" lang="en-US" sz="1400" spc="-1" strike="noStrike">
              <a:solidFill>
                <a:srgbClr val="000000"/>
              </a:solidFill>
              <a:latin typeface="Georgia"/>
            </a:endParaRPr>
          </a:p>
          <a:p>
            <a:pPr marL="168480" indent="-1684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No obstante lo establecido por el considerando anterior, en atención a la interpretación del capítulo J de la R.G. N° 1566 (A.F.I.P., texto sustituido en 2004) que se propiciará por la presente, en el caso no cabe declarar la inconstitucionalidad de aquella norma, pues cabe recordar que la declaración de inconstitucionalidad de una disposición legal o administrativa constituye un recurso extremo al que sólo corresponde acudir cuando no existe otro modo de salvaguardar algún derecho o garantía amparada por la Constitución Nacional y cuando la repugnancia de aquélla con la cláusula constitucional sea manifiesta, clara e indudable (Fallos: 310:1162; 312:496, confr. Regs. Nos. 802/08 y 150/11, entre muchos otros, de esta Sala "B").</a:t>
            </a:r>
            <a:endParaRPr b="0" lang="en-US" sz="1400" spc="-1" strike="noStrike">
              <a:solidFill>
                <a:srgbClr val="000000"/>
              </a:solidFill>
              <a:latin typeface="Georgia"/>
            </a:endParaRPr>
          </a:p>
        </p:txBody>
      </p:sp>
      <p:sp>
        <p:nvSpPr>
          <p:cNvPr id="636"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E440D-0B31-4227-9984-ABAFC2C72395}"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Incumplimiento debida registración de alta y/o baja de trabajadores ocupados. Multa. Confirmación validez del régimen de graduación de sanciones. RG 1566 (V)</a:t>
            </a:r>
            <a:endParaRPr b="0" lang="en-US" sz="2400" spc="-1" strike="noStrike">
              <a:solidFill>
                <a:srgbClr val="8c438f"/>
              </a:solidFill>
              <a:latin typeface="Georgia"/>
            </a:endParaRPr>
          </a:p>
        </p:txBody>
      </p:sp>
      <p:sp>
        <p:nvSpPr>
          <p:cNvPr id="638" name=""/>
          <p:cNvSpPr txBox="1"/>
          <p:nvPr/>
        </p:nvSpPr>
        <p:spPr>
          <a:xfrm>
            <a:off x="142920" y="1285560"/>
            <a:ext cx="8858160" cy="5072040"/>
          </a:xfrm>
          <a:prstGeom prst="rect">
            <a:avLst/>
          </a:prstGeom>
          <a:noFill/>
          <a:ln w="0">
            <a:noFill/>
          </a:ln>
        </p:spPr>
        <p:txBody>
          <a:bodyPr anchor="t">
            <a:normAutofit fontScale="97000"/>
          </a:bodyPr>
          <a:p>
            <a:pPr marL="173880" indent="-1738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Por otra parte, la Corte Suprema de Justicia de la Nación ha establecido que las leyes deben interpretarse y aplicarse buscando la armonización entre éstas y teniendo en cuenta el contexto general y los fines que las informan (Fallos 301:1149, entre muchos otros), de modo que no entren en pugna unas con otras y no se destruyan entre sí (Fallos 307:518), por lo cual debe adoptarse el sentido que las concilie y deje a todas con valor y efecto (Fallos 314:458). Esta doctrina es aplicable también con relación a las disposiciones reglamentarias de naturaleza administrativa.</a:t>
            </a:r>
            <a:endParaRPr b="0" lang="en-US" sz="1400" spc="-1" strike="noStrike">
              <a:solidFill>
                <a:srgbClr val="000000"/>
              </a:solidFill>
              <a:latin typeface="Georgia"/>
            </a:endParaRPr>
          </a:p>
          <a:p>
            <a:pPr marL="173880" indent="-1738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Por lo tanto, conforme a una interpretación armoniosa de lo establecido por el capítulo J de la R.G. N° 1566 de la A.F.I.P. (texto sustituido en 2004) con lo dispuesto por el artículo agregado sin número a continuación del artículo 40 de la ley 11.683, las sanciones establecidas por aquel capítulo deben ser entendidas únicamente como pautas de mensuración internas de la Administración Federal de Ingresos Públicos para la aplicación, por parte de aquel organismo, de las sanciones por infracción al artículo mencionado.</a:t>
            </a:r>
            <a:endParaRPr b="0" lang="en-US" sz="1400" spc="-1" strike="noStrike">
              <a:solidFill>
                <a:srgbClr val="000000"/>
              </a:solidFill>
              <a:latin typeface="Georgia"/>
            </a:endParaRPr>
          </a:p>
          <a:p>
            <a:pPr marL="173880" indent="-1738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Por consiguiente, sin perjuicio de la validez que pudiera tener el capítulo J de la R.G. N° 1566 (A.F.I.P., texto sustituido en 2004) en el ámbito de la Administración Federal de Ingresos Públicos, las sanciones establecidas por aquella norma de ningún modo vinculan al órgano jurisdiccional competente.</a:t>
            </a:r>
            <a:endParaRPr b="0" lang="en-US" sz="1400" spc="-1" strike="noStrike">
              <a:solidFill>
                <a:srgbClr val="000000"/>
              </a:solidFill>
              <a:latin typeface="Georgia"/>
            </a:endParaRPr>
          </a:p>
          <a:p>
            <a:pPr marL="173880" indent="-1738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Por otra parte, el agravio de la defensa con relación a que el acta de fiscalización no se labró en presencia de dos testigos que "...permitieran arribar a un grado de convicción en orden a lo realmente acaecido en ocasión de la inspección...cabe destacar que tal documento no puede erguirse nunca -per se- en instrumento suficiente para dar acreditados los hechos a los que la misma alude...no existe constatación alguna de que en el lapso en el cual se encontraban los inspectores actuantes en el comercio en cuestión, se haya probado que efectivamente la nombrada se encontraba en relación de dependencia... ", tampoco puede tener recepción favorable.</a:t>
            </a:r>
            <a:br>
              <a:rPr sz="1400"/>
            </a:br>
            <a:r>
              <a:rPr b="0" lang="es-AR" sz="1400" spc="-1" strike="noStrike">
                <a:solidFill>
                  <a:srgbClr val="000000"/>
                </a:solidFill>
                <a:latin typeface="Georgia"/>
              </a:rPr>
              <a:t> </a:t>
            </a:r>
            <a:endParaRPr b="0" lang="en-US" sz="1400" spc="-1" strike="noStrike">
              <a:solidFill>
                <a:srgbClr val="000000"/>
              </a:solidFill>
              <a:latin typeface="Georgia"/>
            </a:endParaRPr>
          </a:p>
          <a:p>
            <a:pPr marL="173880" indent="-1738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173880" indent="-1738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639"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0DFD2-5AFA-4A4A-AE9D-63D203DC177D}"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Incumplimiento debida registración de alta y/o baja de trabajadores ocupados. Multa. Confirmación validez del régimen de graduación de sanciones. RG 1566 (VI)</a:t>
            </a:r>
            <a:endParaRPr b="0" lang="en-US" sz="2400" spc="-1" strike="noStrike">
              <a:solidFill>
                <a:srgbClr val="8c438f"/>
              </a:solidFill>
              <a:latin typeface="Georgia"/>
            </a:endParaRPr>
          </a:p>
        </p:txBody>
      </p:sp>
      <p:sp>
        <p:nvSpPr>
          <p:cNvPr id="641" name=""/>
          <p:cNvSpPr txBox="1"/>
          <p:nvPr/>
        </p:nvSpPr>
        <p:spPr>
          <a:xfrm>
            <a:off x="142920" y="1285560"/>
            <a:ext cx="8858160" cy="5072040"/>
          </a:xfrm>
          <a:prstGeom prst="rect">
            <a:avLst/>
          </a:prstGeom>
          <a:noFill/>
          <a:ln w="0">
            <a:noFill/>
          </a:ln>
        </p:spPr>
        <p:txBody>
          <a:bodyPr anchor="t">
            <a:normAutofit fontScale="98000"/>
          </a:bodyPr>
          <a:p>
            <a:pPr marL="175680" indent="-1756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Georgia"/>
              </a:rPr>
              <a:t>Según ha establecido este Tribunal en numerosas oportunidades, el postulado rector en lo que hace al sistema de nulidades es el de conservación de los actos. La interpretación de la existencia de aquéllas es restrictiva (confr. art. 2o del C.P.P.N.) y sólo procede la declaración cuando por la violación de las formalidades resulta un perjuicio real, actual y concreto para la parte que lo invoca, y no cuando aquéllas se plantean en el único interés de la ley o para satisfacer formalidades desprovistas de aquel efecto perjudicial (confr. Reg. Nos. 334/07 y 888/07, entre muchos otros de esta Sala "B").</a:t>
            </a:r>
            <a:endParaRPr b="0" lang="en-US" sz="1300" spc="-1" strike="noStrike">
              <a:solidFill>
                <a:srgbClr val="000000"/>
              </a:solidFill>
              <a:latin typeface="Georgia"/>
            </a:endParaRPr>
          </a:p>
          <a:p>
            <a:pPr marL="175680" indent="-1756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Georgia"/>
              </a:rPr>
              <a:t>Por el art. 41 de la ley 11.683 (texto ordenado por el decreto 821/98) se establece que el acta de comprobación "...deberá estar firmada por los actuantes y notificada al responsable o representante legal del mismo...", es decir que por la redacción del artículo sólo se prevé la intervención de quienes intervengan en representación del organismo recaudador y el responsable o el representante del comercio, sin preverse nada respecto de la intervención de testigos en el acta de constatación producto de la fiscalización realizada por los funcionarios fiscales. Por lo tanto, no corresponde hacer lugar al planteo de nulidad del acta introducido por la defensa, pues por aquel documento se cumplieron los requisitos de forma previstos por la ley. </a:t>
            </a:r>
            <a:endParaRPr b="0" lang="en-US" sz="1300" spc="-1" strike="noStrike">
              <a:solidFill>
                <a:srgbClr val="000000"/>
              </a:solidFill>
              <a:latin typeface="Georgia"/>
            </a:endParaRPr>
          </a:p>
          <a:p>
            <a:pPr marL="175680" indent="-1756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Georgia"/>
              </a:rPr>
              <a:t>Por último, respecto a la sanción que corresponde imponer al sumariado, atento a la escala penal prevista por el artículo 40 de la ley 11.683, a la cual se remite por el artículo agregado sin número a continuación de aquel artículo, y en virtud de las reformas a la ley efectuadas por la ley 25.795 (v. art. 1º punto XVIII, párrafo 5º in fine de esta última), que resulta de aplicación a estos autos por lo establecido por el art. 2 del Código Penal, a la naturaleza de la infracción y a las particulares circunstancias que se verifican en el caso, de las cuales surge que Fernando Gregorio MALAKIAN habría registrado ante la A.F.I.P. el alta de la empleada Natalia Vanesa SPIGUELMAN sólo doce días después de la fecha de inicio de la relación laboral declarada por aquélla, corresponde disminuir la sanción de multa impuesta por la A.F.I.P. y confirmada por el juzgado "a quo " al monto mínimo de la pena de multa que se dispone por el art. 40 de la ley 11.683.</a:t>
            </a:r>
            <a:endParaRPr b="0" lang="en-US" sz="1300" spc="-1" strike="noStrike">
              <a:solidFill>
                <a:srgbClr val="000000"/>
              </a:solidFill>
              <a:latin typeface="Georgia"/>
            </a:endParaRPr>
          </a:p>
          <a:p>
            <a:pPr marL="175680" indent="-1756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Georgia"/>
              </a:rPr>
              <a:t>EN IGUAL SENTIDO: “Scent SA” CNAPE, Sala “B” del 20/10/11, “Vattuone, Daniela Analía” del 23/9/11 y “Amenabar Café SRL” del 8/9/11.</a:t>
            </a:r>
            <a:endParaRPr b="0" lang="en-US" sz="1300" spc="-1" strike="noStrike">
              <a:solidFill>
                <a:srgbClr val="000000"/>
              </a:solidFill>
              <a:latin typeface="Georgia"/>
            </a:endParaRPr>
          </a:p>
        </p:txBody>
      </p:sp>
      <p:sp>
        <p:nvSpPr>
          <p:cNvPr id="642"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B1EE-5C0D-47B6-86D8-DA726835C15C}"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Georgia"/>
              </a:rPr>
              <a:t>Clausura y Multa</a:t>
            </a:r>
            <a:r>
              <a:rPr b="1" lang="es-AR" sz="2400" spc="-1" strike="noStrike">
                <a:solidFill>
                  <a:srgbClr val="000000"/>
                </a:solidFill>
                <a:latin typeface="Georgia"/>
              </a:rPr>
              <a:t>. Omisión de emitir y entregar factura (RG 1415). Emisión ticket después de la inspección. Confirmación.</a:t>
            </a:r>
            <a:endParaRPr b="0" lang="en-US" sz="2400" spc="-1" strike="noStrike">
              <a:solidFill>
                <a:srgbClr val="8c438f"/>
              </a:solidFill>
              <a:latin typeface="Georgia"/>
            </a:endParaRPr>
          </a:p>
        </p:txBody>
      </p:sp>
      <p:sp>
        <p:nvSpPr>
          <p:cNvPr id="644" name=""/>
          <p:cNvSpPr txBox="1"/>
          <p:nvPr/>
        </p:nvSpPr>
        <p:spPr>
          <a:xfrm>
            <a:off x="142560" y="1356840"/>
            <a:ext cx="9001080" cy="5072040"/>
          </a:xfrm>
          <a:prstGeom prst="rect">
            <a:avLst/>
          </a:prstGeom>
          <a:noFill/>
          <a:ln w="0">
            <a:noFill/>
          </a:ln>
        </p:spPr>
        <p:txBody>
          <a:bodyPr anchor="t">
            <a:normAutofit fontScale="99000"/>
          </a:bodyPr>
          <a:p>
            <a:pPr marL="177480" indent="-17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Plaza Asturias SRL” CNAPE, Sala “A” del 11/11/11</a:t>
            </a:r>
            <a:endParaRPr b="0" lang="en-US" sz="1400" spc="-1" strike="noStrike">
              <a:solidFill>
                <a:srgbClr val="000000"/>
              </a:solidFill>
              <a:latin typeface="Georgia"/>
            </a:endParaRPr>
          </a:p>
          <a:p>
            <a:pPr marL="177480" indent="-177480">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Se le imputa al contribuyente la omisión de emitir y entregar factura o documento equivalente conforme lo exige la Resolución General 1415 de la Administración General de Ingresos Públicos.</a:t>
            </a:r>
            <a:endParaRPr b="0" lang="en-US" sz="1800" spc="-1" strike="noStrike">
              <a:solidFill>
                <a:srgbClr val="000000"/>
              </a:solidFill>
              <a:latin typeface="Georgia"/>
            </a:endParaRPr>
          </a:p>
          <a:p>
            <a:pPr marL="177480" indent="-177480">
              <a:spcBef>
                <a:spcPts val="3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o resuelto por el a quo que confirmó la sanción de multa y clausura impuesta por la Administración Federal de Ingresos Públicos por infracción al Art. 40 de la ley 11.683 se funda en que dicha omisión se encuentra debidamente probada mediante el acta de constatación que se labró en ocasión de una inspección realizada por el organismo de recaudación.</a:t>
            </a:r>
            <a:endParaRPr b="0" lang="en-US" sz="1800" spc="-1" strike="noStrike">
              <a:solidFill>
                <a:srgbClr val="000000"/>
              </a:solidFill>
              <a:latin typeface="Georgia"/>
            </a:endParaRPr>
          </a:p>
          <a:p>
            <a:pPr marL="177480" indent="-177480">
              <a:spcBef>
                <a:spcPts val="3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La apelante niega haber incurrido en infracción en tanto oportunamente acreditó la efectiva emisión del ticket correspondiente a la operación comercial que dio inicio a las presentes actuaciones.</a:t>
            </a:r>
            <a:endParaRPr b="0" lang="en-US" sz="1800" spc="-1" strike="noStrike">
              <a:solidFill>
                <a:srgbClr val="000000"/>
              </a:solidFill>
              <a:latin typeface="Georgia"/>
            </a:endParaRPr>
          </a:p>
          <a:p>
            <a:pPr marL="177480" indent="-177480">
              <a:spcBef>
                <a:spcPts val="3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De las constancias del expediente surge que dicho comprobante fue emitido varios minutos después del horario de la inspección , por lo que no alcanza a desvirtuar la materialidad de la infracción constatada.</a:t>
            </a:r>
            <a:endParaRPr b="0" lang="en-US" sz="1800" spc="-1" strike="noStrike">
              <a:solidFill>
                <a:srgbClr val="000000"/>
              </a:solidFill>
              <a:latin typeface="Georgia"/>
            </a:endParaRPr>
          </a:p>
          <a:p>
            <a:pPr marL="177480" indent="-177480">
              <a:spcBef>
                <a:spcPts val="3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l contribuyente presenta antecedentes y el incumplimiento del deber formal reviste relativa gravedad, por lo que no corresponde eximir por completo de sanción aunque sí cabe reducirla (conf. artículo 49 de la ley 11.683).</a:t>
            </a:r>
            <a:endParaRPr b="0" lang="en-US" sz="1800" spc="-1" strike="noStrike">
              <a:solidFill>
                <a:srgbClr val="000000"/>
              </a:solidFill>
              <a:latin typeface="Georgia"/>
            </a:endParaRPr>
          </a:p>
        </p:txBody>
      </p:sp>
      <p:sp>
        <p:nvSpPr>
          <p:cNvPr id="645"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6834-7C75-44BD-8C18-4A486512DB90}"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13840" y="285480"/>
            <a:ext cx="89298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Georgia"/>
              </a:rPr>
              <a:t>Clausura por falta de exhibición de la placa del monotributista y comprobante de pago. Improcedencia.</a:t>
            </a:r>
            <a:endParaRPr b="0" lang="en-US" sz="2500" spc="-1" strike="noStrike">
              <a:solidFill>
                <a:srgbClr val="8c438f"/>
              </a:solidFill>
              <a:latin typeface="Georgia"/>
            </a:endParaRPr>
          </a:p>
        </p:txBody>
      </p:sp>
      <p:sp>
        <p:nvSpPr>
          <p:cNvPr id="647" name=""/>
          <p:cNvSpPr txBox="1"/>
          <p:nvPr/>
        </p:nvSpPr>
        <p:spPr>
          <a:xfrm>
            <a:off x="142920" y="1356840"/>
            <a:ext cx="885816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Cabitto, Hector Carlos” CNAPE, Sala “A” del 26/9/11</a:t>
            </a:r>
            <a:endParaRPr b="0" lang="en-US" sz="16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900" spc="-1" strike="noStrike">
                <a:solidFill>
                  <a:srgbClr val="000000"/>
                </a:solidFill>
                <a:latin typeface="Georgia"/>
              </a:rPr>
              <a:t>Se revoca la </a:t>
            </a:r>
            <a:r>
              <a:rPr b="0" lang="es-ES_tradnl" sz="1900" spc="-1" strike="noStrike">
                <a:solidFill>
                  <a:srgbClr val="000000"/>
                </a:solidFill>
                <a:latin typeface="Georgia"/>
              </a:rPr>
              <a:t>resolución del juez de primera instancia que confirmó la sanción de clausura de su local comercial impuesta por la Administración Federal de Ingresos Públicos.</a:t>
            </a:r>
            <a:endParaRPr b="0" lang="en-US" sz="19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Georgia"/>
              </a:rPr>
              <a:t>Lo resuelto se funda en que el comerciante omitió exhibir en un lugar visible al público, la placa indicativa de su condición de pequeño contribuyente y el comprobante de pago correspondiente al último mes vencido del Régimen Simplificado para Pequeños Contribuyentes.</a:t>
            </a:r>
            <a:endParaRPr b="0" lang="en-US" sz="19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Georgia"/>
              </a:rPr>
              <a:t>Se encuentra comprobado y fuera de discusión que Cabitto se encuentra inscripto en el Régimen Simplificado y que había pagado el importe correspondiente al mes vencido. Sólo se le imputa la omisión de exhibir los comprobantes respectivos.</a:t>
            </a:r>
            <a:endParaRPr b="0" lang="en-US" sz="19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Georgia"/>
              </a:rPr>
              <a:t>La Ley de Procedimientos Tributarios autoriza a eximir de sanción cuando las infracciones no revisten gravedad (conf. art. 49 de la ley 11.683, modificada por la ley 25.795). Las circunstancias del caso y la falta de antecedentes del contribuyente justifican proceder de ese modo.</a:t>
            </a:r>
            <a:endParaRPr b="0" lang="en-US" sz="1900" spc="-1" strike="noStrike">
              <a:solidFill>
                <a:srgbClr val="000000"/>
              </a:solidFill>
              <a:latin typeface="Georgia"/>
            </a:endParaRPr>
          </a:p>
        </p:txBody>
      </p:sp>
      <p:sp>
        <p:nvSpPr>
          <p:cNvPr id="648"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A63B-88E1-4705-BC2B-DCF8D8DB7A97}"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213840" y="142560"/>
            <a:ext cx="8929800" cy="104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eorgia"/>
              </a:rPr>
              <a:t>Estimación de oficio en base a constancias de consumo de energía eléctrica</a:t>
            </a:r>
            <a:endParaRPr b="0" lang="en-US" sz="3000" spc="-1" strike="noStrike">
              <a:solidFill>
                <a:srgbClr val="8c438f"/>
              </a:solidFill>
              <a:latin typeface="Georgia"/>
            </a:endParaRPr>
          </a:p>
        </p:txBody>
      </p:sp>
      <p:sp>
        <p:nvSpPr>
          <p:cNvPr id="650" name=""/>
          <p:cNvSpPr txBox="1"/>
          <p:nvPr/>
        </p:nvSpPr>
        <p:spPr>
          <a:xfrm>
            <a:off x="142920" y="1356840"/>
            <a:ext cx="885816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eorgia"/>
              </a:rPr>
              <a:t>Causa: “Algodonera Quitilipi SA” TFN, Sala “D” del 1/8/11</a:t>
            </a:r>
            <a:endParaRPr b="0" lang="en-US" sz="18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Se confirma la resolución apelada, en cuanto determinó el IVA del contribuyente al advertirse que no figuraban ingresos declarados, no obstante haberse verificado la existencia de constancias de consumo de energía eléctrica, de lo que se dedujo que la desmotadora operó en el ejercicio.</a:t>
            </a:r>
            <a:endParaRPr b="0" lang="en-US" sz="2800" spc="-1" strike="noStrike">
              <a:solidFill>
                <a:srgbClr val="000000"/>
              </a:solidFill>
              <a:latin typeface="Georgia"/>
            </a:endParaRPr>
          </a:p>
        </p:txBody>
      </p:sp>
      <p:sp>
        <p:nvSpPr>
          <p:cNvPr id="651"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94C4E-515E-410A-953C-33A696B36867}"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Procedencia de la exclusión del monotributo por obtener ingresos superiores al límite de la última categoría</a:t>
            </a:r>
            <a:endParaRPr b="0" lang="en-US" sz="2400" spc="-1" strike="noStrike">
              <a:solidFill>
                <a:srgbClr val="8c438f"/>
              </a:solidFill>
              <a:latin typeface="Georgia"/>
            </a:endParaRPr>
          </a:p>
        </p:txBody>
      </p:sp>
      <p:sp>
        <p:nvSpPr>
          <p:cNvPr id="653" name=""/>
          <p:cNvSpPr txBox="1"/>
          <p:nvPr/>
        </p:nvSpPr>
        <p:spPr>
          <a:xfrm>
            <a:off x="142920" y="1285560"/>
            <a:ext cx="8858160" cy="5072040"/>
          </a:xfrm>
          <a:prstGeom prst="rect">
            <a:avLst/>
          </a:prstGeom>
          <a:noFill/>
          <a:ln w="0">
            <a:noFill/>
          </a:ln>
        </p:spPr>
        <p:txBody>
          <a:bodyPr anchor="t">
            <a:normAutofit fontScale="95000"/>
          </a:bodyPr>
          <a:p>
            <a:pPr marL="170280" indent="-170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eorgia"/>
              </a:rPr>
              <a:t>Causa: “Nelson, Eduardo Daniel” TFN, Sala “D” del 1/8/11</a:t>
            </a:r>
            <a:endParaRPr b="0" lang="en-US" sz="1800" spc="-1" strike="noStrike">
              <a:solidFill>
                <a:srgbClr val="000000"/>
              </a:solidFill>
              <a:latin typeface="Georgia"/>
            </a:endParaRPr>
          </a:p>
          <a:p>
            <a:pPr marL="170280" indent="-170280">
              <a:spcBef>
                <a:spcPts val="3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rPr>
              <a:t>Dado que con los elementos colectados por el Fisco ha quedado demostrado en autos que la actora obtiene ingresos superiores a los permitidos por la última categoría, debido a que la realidad económica de las transacciones celebradas demuestra que sus ingresos brutos están representados por las sumas facturadas que deben considerarse como verdaderas ventas, sin que en esta instancia la apelante ofreciera pruebas que sirvieran para desvirtuar el criterio plasmado en la determinación atacada, sólo cabe concluir que a partir del 1 de diciembre de 2002, el recurrente obtiene ingresos superiores a los que autoriza la última categoría del Régimen Simplificado de Pequeños Contribuyentes-monotributo, correspondiendo su exclusión del mismo.</a:t>
            </a:r>
            <a:endParaRPr b="0" lang="en-US" sz="2400" spc="-1" strike="noStrike">
              <a:solidFill>
                <a:srgbClr val="000000"/>
              </a:solidFill>
              <a:latin typeface="Georgia"/>
            </a:endParaRPr>
          </a:p>
        </p:txBody>
      </p:sp>
      <p:sp>
        <p:nvSpPr>
          <p:cNvPr id="654"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5552-F89C-4A1F-9340-8D5BFB0AA5C6}"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Procedencia de la acción de amparo en el caso de demoras administrativas en la devolución del IVA exportación</a:t>
            </a:r>
            <a:endParaRPr b="0" lang="en-US" sz="2400" spc="-1" strike="noStrike">
              <a:solidFill>
                <a:srgbClr val="8c438f"/>
              </a:solidFill>
              <a:latin typeface="Georgia"/>
            </a:endParaRPr>
          </a:p>
        </p:txBody>
      </p:sp>
      <p:sp>
        <p:nvSpPr>
          <p:cNvPr id="656" name=""/>
          <p:cNvSpPr txBox="1"/>
          <p:nvPr/>
        </p:nvSpPr>
        <p:spPr>
          <a:xfrm>
            <a:off x="142920" y="1356840"/>
            <a:ext cx="885816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Adeco Agropecuaria SA”</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eorgia"/>
              </a:rPr>
              <a:t>Es procedente la acción de amparo respecto de reintegros aun pendientes, sin haber justificado la AFIP la demora incurrida, fijándose un plazo de 15 días para que el Organismo Fiscal complete las diligencias necesarias para la conclusión del trámite a su cargo.</a:t>
            </a:r>
            <a:endParaRPr b="0" lang="en-US" sz="3200" spc="-1" strike="noStrike">
              <a:solidFill>
                <a:srgbClr val="000000"/>
              </a:solidFill>
              <a:latin typeface="Georgia"/>
            </a:endParaRPr>
          </a:p>
        </p:txBody>
      </p:sp>
      <p:sp>
        <p:nvSpPr>
          <p:cNvPr id="657"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A59C-0E79-4F1E-A933-20E61FBCBEC4}"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Georgia"/>
              </a:rPr>
              <a:t>Forma de cálculo del límite del 25% de las utilidades contables</a:t>
            </a:r>
            <a:endParaRPr b="0" lang="en-US" sz="3200" spc="-1" strike="noStrike">
              <a:solidFill>
                <a:srgbClr val="8c438f"/>
              </a:solidFill>
              <a:latin typeface="Georgia"/>
            </a:endParaRPr>
          </a:p>
        </p:txBody>
      </p:sp>
      <p:sp>
        <p:nvSpPr>
          <p:cNvPr id="659" name=""/>
          <p:cNvSpPr txBox="1"/>
          <p:nvPr/>
        </p:nvSpPr>
        <p:spPr>
          <a:xfrm>
            <a:off x="142920" y="1356840"/>
            <a:ext cx="885816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Eastel SAIC”, TFN, Sala “C” de 10/8/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A los fines de la determinación del límite del 25% de las ganancias, como monto máximo de las remuneraciones de directores, no se tiene en cuenta las retribuciones del directorio y del consejo de vigilancia.</a:t>
            </a:r>
            <a:endParaRPr b="0" lang="en-US" sz="28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u="sng">
                <a:solidFill>
                  <a:srgbClr val="000000"/>
                </a:solidFill>
                <a:uFillTx/>
                <a:latin typeface="Georgia"/>
              </a:rPr>
              <a:t>NOTA</a:t>
            </a:r>
            <a:r>
              <a:rPr b="0" lang="es-AR" sz="2800" spc="-1" strike="noStrike">
                <a:solidFill>
                  <a:srgbClr val="000000"/>
                </a:solidFill>
                <a:latin typeface="Georgia"/>
              </a:rPr>
              <a:t>: En el mismo sentido, “Egon Zehnder International SA” TFN, Sala “C” del 4/7/11 e “Industrias Metalurgica Sud Americana IMSA SACI”, TFN, Sala “A” del 7/5/03.</a:t>
            </a:r>
            <a:endParaRPr b="0" lang="en-US" sz="2800" spc="-1" strike="noStrike">
              <a:solidFill>
                <a:srgbClr val="000000"/>
              </a:solidFill>
              <a:latin typeface="Georgia"/>
            </a:endParaRPr>
          </a:p>
        </p:txBody>
      </p:sp>
      <p:sp>
        <p:nvSpPr>
          <p:cNvPr id="660"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2D3D-B8C0-4466-926A-23FDACF4C39B}"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Deducibilidad del IBP en el impuesto a las ganancias</a:t>
            </a:r>
            <a:endParaRPr b="0" lang="en-US" sz="3600" spc="-1" strike="noStrike">
              <a:solidFill>
                <a:srgbClr val="8c438f"/>
              </a:solidFill>
              <a:latin typeface="Georgia"/>
            </a:endParaRPr>
          </a:p>
        </p:txBody>
      </p:sp>
      <p:sp>
        <p:nvSpPr>
          <p:cNvPr id="662" name=""/>
          <p:cNvSpPr txBox="1"/>
          <p:nvPr/>
        </p:nvSpPr>
        <p:spPr>
          <a:xfrm>
            <a:off x="142920" y="1356840"/>
            <a:ext cx="885816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Ceide, Nestor Raúl”, TFN, Sala “C” del 4/8/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l impuesto sobre los bienes personales efectivamente ingresado por la aquí recurrente, correspondiente a las tenencias accionarias que dieron origen al pago de dividendos, resulta deducible a efectos de determinar la ganancia imponible de acuerdo con lo normado en el artículo 81 inciso a) del texto legal del impuesto a las ganancias</a:t>
            </a:r>
            <a:r>
              <a:rPr b="0" lang="es-AR" sz="2800" spc="-1" strike="noStrike">
                <a:solidFill>
                  <a:srgbClr val="000000"/>
                </a:solidFill>
                <a:latin typeface="Georgia"/>
              </a:rPr>
              <a:t>.</a:t>
            </a:r>
            <a:endParaRPr b="0" lang="en-US" sz="2800" spc="-1" strike="noStrike">
              <a:solidFill>
                <a:srgbClr val="000000"/>
              </a:solidFill>
              <a:latin typeface="Georgia"/>
            </a:endParaRPr>
          </a:p>
        </p:txBody>
      </p:sp>
      <p:sp>
        <p:nvSpPr>
          <p:cNvPr id="663"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EFF5-7348-470A-94EF-12FAFAA61D26}"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85840" y="571320"/>
            <a:ext cx="853416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Improcedencia de la extinción de la acción penal por acogimiento a moratoria al no abarcar la pretensión fiscal (I)</a:t>
            </a:r>
            <a:endParaRPr b="0" lang="en-US" sz="2400" spc="-1" strike="noStrike">
              <a:solidFill>
                <a:srgbClr val="8c438f"/>
              </a:solidFill>
              <a:latin typeface="Georgia"/>
            </a:endParaRPr>
          </a:p>
        </p:txBody>
      </p:sp>
      <p:sp>
        <p:nvSpPr>
          <p:cNvPr id="611" name=""/>
          <p:cNvSpPr txBox="1"/>
          <p:nvPr/>
        </p:nvSpPr>
        <p:spPr>
          <a:xfrm>
            <a:off x="142920" y="1428480"/>
            <a:ext cx="8842320" cy="5072040"/>
          </a:xfrm>
          <a:prstGeom prst="rect">
            <a:avLst/>
          </a:prstGeom>
          <a:noFill/>
          <a:ln w="0">
            <a:noFill/>
          </a:ln>
        </p:spPr>
        <p:txBody>
          <a:bodyPr anchor="t">
            <a:normAutofit fontScale="98000"/>
          </a:bodyPr>
          <a:p>
            <a:pPr marL="175680" indent="-1756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eorgia"/>
              </a:rPr>
              <a:t>Causa: “M.S.U. SA” CNAPE, Sala “B” del 6/9/11</a:t>
            </a:r>
            <a:endParaRPr b="0" lang="en-US" sz="1800" spc="-1" strike="noStrike">
              <a:solidFill>
                <a:srgbClr val="000000"/>
              </a:solidFill>
              <a:latin typeface="Georgia"/>
            </a:endParaRPr>
          </a:p>
          <a:p>
            <a:pPr marL="175680" indent="-1756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Se revoca la resolución apelada, en cuanto declaró extinguida la acción penal por amnistía por acogimiento a la moratoria de la ley 26476.</a:t>
            </a:r>
            <a:endParaRPr b="0" lang="en-US" sz="2000" spc="-1" strike="noStrike">
              <a:solidFill>
                <a:srgbClr val="000000"/>
              </a:solidFill>
              <a:latin typeface="Georgia"/>
            </a:endParaRPr>
          </a:p>
          <a:p>
            <a:pPr marL="175680" indent="-1756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El informe efectuado por la A.F.I.P.-D.G.I. coincide con lo que surge del detalle de obligaciones a regularizar en los términos de la ley N° 26.476 presentado por los representantes de MSU S.A. </a:t>
            </a:r>
            <a:endParaRPr b="0" lang="en-US" sz="2000" spc="-1" strike="noStrike">
              <a:solidFill>
                <a:srgbClr val="000000"/>
              </a:solidFill>
              <a:latin typeface="Georgia"/>
            </a:endParaRPr>
          </a:p>
          <a:p>
            <a:pPr marL="175680" indent="-1756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En efecto, de esta presentación surge que los montos por los cuales MSU S.A. se habría acogido al plan previsto en los términos de la ley N° 26.476, no conformarían en su totalidad la pretensión fiscal que sustenta la imputación de la causa principal</a:t>
            </a:r>
            <a:endParaRPr b="0" lang="en-US" sz="2000" spc="-1" strike="noStrike">
              <a:solidFill>
                <a:srgbClr val="000000"/>
              </a:solidFill>
              <a:latin typeface="Georgia"/>
            </a:endParaRPr>
          </a:p>
          <a:p>
            <a:pPr marL="175680" indent="-1756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Además de lo expresado, cabe tener en cuenta que algunos ajustes efectuados por el organismo administrativo en la determinación de la deuda son materia de discusión ante el Tribunal Fiscal de la Nación, es decir que los responsables de MSU S.A. no habrían desistido de la acción administrativa en cuestión.</a:t>
            </a:r>
            <a:endParaRPr b="0" lang="en-US" sz="2000" spc="-1" strike="noStrike">
              <a:solidFill>
                <a:srgbClr val="000000"/>
              </a:solidFill>
              <a:latin typeface="Georgia"/>
            </a:endParaRPr>
          </a:p>
        </p:txBody>
      </p:sp>
      <p:sp>
        <p:nvSpPr>
          <p:cNvPr id="612"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7F99-46FA-4B0B-AD23-0B13A4D4F11B}"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42560" y="214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000" spc="-1" strike="noStrike">
                <a:solidFill>
                  <a:srgbClr val="000000"/>
                </a:solidFill>
                <a:latin typeface="Georgia"/>
              </a:rPr>
              <a:t>Exclusión del IVA de los “Certificados y obleas” de la inspección técnica de vehículos</a:t>
            </a:r>
            <a:endParaRPr b="0" lang="en-US" sz="3000" spc="-1" strike="noStrike">
              <a:solidFill>
                <a:srgbClr val="8c438f"/>
              </a:solidFill>
              <a:latin typeface="Georgia"/>
            </a:endParaRPr>
          </a:p>
        </p:txBody>
      </p:sp>
      <p:sp>
        <p:nvSpPr>
          <p:cNvPr id="665" name=""/>
          <p:cNvSpPr txBox="1"/>
          <p:nvPr/>
        </p:nvSpPr>
        <p:spPr>
          <a:xfrm>
            <a:off x="142920" y="1428480"/>
            <a:ext cx="885816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Educauto SRL”, TFN, Sala “C” del 18/8/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eorgia"/>
              </a:rPr>
              <a:t>Los ingresos obtenidos por los “Certificados y obleas” de la inspección técnicas de vehículos, no se corresponden con operaciones de venta, quedando excluidas del IVA</a:t>
            </a:r>
            <a:r>
              <a:rPr b="0" lang="es-AR" sz="3200" spc="-1" strike="noStrike">
                <a:solidFill>
                  <a:srgbClr val="000000"/>
                </a:solidFill>
                <a:latin typeface="Georgia"/>
              </a:rPr>
              <a:t>.</a:t>
            </a:r>
            <a:endParaRPr b="0" lang="en-US" sz="3200" spc="-1" strike="noStrike">
              <a:solidFill>
                <a:srgbClr val="000000"/>
              </a:solidFill>
              <a:latin typeface="Georgia"/>
            </a:endParaRPr>
          </a:p>
        </p:txBody>
      </p:sp>
      <p:sp>
        <p:nvSpPr>
          <p:cNvPr id="666"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4525-B21F-4775-922D-D507F66C787D}"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Georgia"/>
              </a:rPr>
              <a:t>Revocatoria de la multa por defraudación en un caso de facturas apócrifas</a:t>
            </a:r>
            <a:endParaRPr b="0" lang="en-US" sz="3200" spc="-1" strike="noStrike">
              <a:solidFill>
                <a:srgbClr val="8c438f"/>
              </a:solidFill>
              <a:latin typeface="Georgia"/>
            </a:endParaRPr>
          </a:p>
        </p:txBody>
      </p:sp>
      <p:sp>
        <p:nvSpPr>
          <p:cNvPr id="668" name=""/>
          <p:cNvSpPr txBox="1"/>
          <p:nvPr/>
        </p:nvSpPr>
        <p:spPr>
          <a:xfrm>
            <a:off x="142920" y="1356840"/>
            <a:ext cx="885816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Saffe, Marcelo Jorge”, TFN, Sala “C” del 29/8/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revoca la multa por defraudación aplicada, en el caso de un contribuyente que rectificó sus DDJJ originales, aceptando un ajuste fiscal por impugnación de créditos fiscales en el IVA, al considerarse que no puede ser calificada como ardidosa la maniobra, si el responsable efectuó la consulta de facturas apócrifas que coincide con la autorización otorgada por la AFIP y que se encuentra vigente</a:t>
            </a:r>
            <a:r>
              <a:rPr b="0" lang="es-AR" sz="2800" spc="-1" strike="noStrike">
                <a:solidFill>
                  <a:srgbClr val="000000"/>
                </a:solidFill>
                <a:latin typeface="Georgia"/>
              </a:rPr>
              <a:t>.</a:t>
            </a:r>
            <a:endParaRPr b="0" lang="en-US" sz="2800" spc="-1" strike="noStrike">
              <a:solidFill>
                <a:srgbClr val="000000"/>
              </a:solidFill>
              <a:latin typeface="Georgia"/>
            </a:endParaRPr>
          </a:p>
        </p:txBody>
      </p:sp>
      <p:sp>
        <p:nvSpPr>
          <p:cNvPr id="669"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8237-C940-47EF-94B4-D8826E17AC50}"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Las primas y premios percibidos por los jugadores de fútbol profesional son rentas de cuarta categoría en relación de dependencia (I)</a:t>
            </a:r>
            <a:endParaRPr b="0" lang="en-US" sz="2400" spc="-1" strike="noStrike">
              <a:solidFill>
                <a:srgbClr val="8c438f"/>
              </a:solidFill>
              <a:latin typeface="Georgia"/>
            </a:endParaRPr>
          </a:p>
        </p:txBody>
      </p:sp>
      <p:sp>
        <p:nvSpPr>
          <p:cNvPr id="671" name=""/>
          <p:cNvSpPr txBox="1"/>
          <p:nvPr/>
        </p:nvSpPr>
        <p:spPr>
          <a:xfrm>
            <a:off x="142560" y="1285560"/>
            <a:ext cx="9001080" cy="5072040"/>
          </a:xfrm>
          <a:prstGeom prst="rect">
            <a:avLst/>
          </a:prstGeom>
          <a:noFill/>
          <a:ln w="0">
            <a:noFill/>
          </a:ln>
        </p:spPr>
        <p:txBody>
          <a:bodyPr anchor="t">
            <a:normAutofit fontScale="97000"/>
          </a:bodyPr>
          <a:p>
            <a:pPr marL="173880" indent="-173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Racing Club Asociación Civil”, TFN, Sala “C” del 31/8/11</a:t>
            </a:r>
            <a:endParaRPr b="0" lang="en-US" sz="1400" spc="-1" strike="noStrike">
              <a:solidFill>
                <a:srgbClr val="000000"/>
              </a:solidFill>
              <a:latin typeface="Georgia"/>
            </a:endParaRPr>
          </a:p>
          <a:p>
            <a:pPr marL="173880" indent="-1738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Las ganancias percibidas por el recurrente constituyen ganancias de la cuarta categoría del impuesto a las ganancias y, más específicamente, provenientes del ejercicio de su labor en relación de dependencia, las que deben ser objeto del tratamiento retentivo previsto en la RG Nº 4139. El trabajo del jugador de fútbol se encuentra regulado por las leyes 20160 y 24622, que legislan el Estatuto del Jugador Profesional, la ley 20744 de Contrato de Trabajo y sus modificaciones y el Convenio Colectivo de Trabajo 430/75, que rige los derechos y deberes de aquél y sus empleadores.</a:t>
            </a:r>
            <a:endParaRPr b="0" lang="en-US" sz="1500" spc="-1" strike="noStrike">
              <a:solidFill>
                <a:srgbClr val="000000"/>
              </a:solidFill>
              <a:latin typeface="Georgia"/>
            </a:endParaRPr>
          </a:p>
          <a:p>
            <a:pPr marL="173880" indent="-173880">
              <a:spcBef>
                <a:spcPts val="374"/>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Georgia"/>
              </a:rPr>
              <a:t>No es óbice a dicha conceptualización la circunstancia de que, por alguna situación particular, el agente no preste un trabajo específico, siempre que el dependiente se halle a disposición del principal (conf. art. 103, ley 20744). Asimismo, además del salario, el trabajador puede percibir otros beneficios que, originados en su condición de dependiente, pueden no considerarse remuneratorios, ya sea porque cubren contingencias sociales ( indemnizaciones por accidentes o despidos), tienen relación con su situación familiar (subsidios familiares), representan beneficios que no se expresan en dinero pero mejoran su calidad de vida (servicios de comedor, guardería, etc,) o resultan de normas particulares propias de su actividad (normas especiales de cada convenio). Entre las que pueden incluir otras gratificaciones entre las que podemos incluir premios y primas. Que a los efectos tributarios, todos ellos constituyen beneficios derivados de la relación de dependencia y no se modifica dicha calificación por su condición de remuneratorios o no a los efectos previsionales, o por el específico trato que, en particular, pudiera otorgársele a alguno de ellos (vg. indemnizaciones por antigüedad o subsidios familiares, ambos exentos del gravamen en cuestión).</a:t>
            </a:r>
            <a:endParaRPr b="0" lang="en-US" sz="1500" spc="-1" strike="noStrike">
              <a:solidFill>
                <a:srgbClr val="000000"/>
              </a:solidFill>
              <a:latin typeface="Georgia"/>
            </a:endParaRPr>
          </a:p>
          <a:p>
            <a:pPr marL="173880" indent="-17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672"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282D-AF8C-4336-BB3E-8BF98032D216}"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Las primas y premios percibidos por los jugadores de fútbol profesional son rentas de cuarta categoría en relación de dependencia (II)</a:t>
            </a:r>
            <a:endParaRPr b="0" lang="en-US" sz="2400" spc="-1" strike="noStrike">
              <a:solidFill>
                <a:srgbClr val="8c438f"/>
              </a:solidFill>
              <a:latin typeface="Georgia"/>
            </a:endParaRPr>
          </a:p>
        </p:txBody>
      </p:sp>
      <p:sp>
        <p:nvSpPr>
          <p:cNvPr id="674" name=""/>
          <p:cNvSpPr txBox="1"/>
          <p:nvPr/>
        </p:nvSpPr>
        <p:spPr>
          <a:xfrm>
            <a:off x="142920" y="1428480"/>
            <a:ext cx="8858160" cy="5072040"/>
          </a:xfrm>
          <a:prstGeom prst="rect">
            <a:avLst/>
          </a:prstGeom>
          <a:noFill/>
          <a:ln w="0">
            <a:noFill/>
          </a:ln>
        </p:spPr>
        <p:txBody>
          <a:bodyPr anchor="t">
            <a:normAutofit/>
          </a:bodyPr>
          <a:p>
            <a:pPr marL="272880" indent="-272880">
              <a:spcBef>
                <a:spcPts val="45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En consecuencia, las ganancias derivadas de su actividad, motivadas por prestaciones reguladas en el Convenio Colectivo de Trabajo, deben considerarse incluidas en el art. 79 -inciso b- de la ley del impuesto a las ganancias. Lo expuesto, además, se alinea con lo sostenido por el propio Fisco Nacional en su dictamen N° 113/95 (DAT) del 18/10/95 en asunto: N. N. Sebastián (Boletín DGI N° 154, pág. 1662).</a:t>
            </a:r>
            <a:endParaRPr b="0" lang="en-US" sz="1800" spc="-1" strike="noStrike">
              <a:solidFill>
                <a:srgbClr val="000000"/>
              </a:solidFill>
              <a:latin typeface="Georgia"/>
            </a:endParaRPr>
          </a:p>
          <a:p>
            <a:pPr marL="272880" indent="-272880">
              <a:spcBef>
                <a:spcPts val="45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Frente a tal tipificación de los beneficios en una enumeración no taxativa, corresponde la aplicación del régimen retentivo previsto por la resolución general 4139, la que, en su art. 1</a:t>
            </a:r>
            <a:r>
              <a:rPr b="0" lang="es-ES_tradnl" sz="1800" spc="-1" strike="noStrike" baseline="30000">
                <a:solidFill>
                  <a:srgbClr val="000000"/>
                </a:solidFill>
                <a:latin typeface="Georgia"/>
              </a:rPr>
              <a:t>o</a:t>
            </a:r>
            <a:r>
              <a:rPr b="0" lang="es-ES_tradnl" sz="1800" spc="-1" strike="noStrike">
                <a:solidFill>
                  <a:srgbClr val="000000"/>
                </a:solidFill>
                <a:latin typeface="Georgia"/>
              </a:rPr>
              <a:t>, incluye a las ganancias comprendidas en el mentado inciso b) del art. 79 de la ley del impuesto a las ganancias, como a sus ajustes de cualquier naturaleza, independientemente de la forma de pago en que se efectúen (dinero o especie). Cabe resaltar que dicha resolución no limita a sueldos o salarios, sino a toda ganancias derivada de un trabajo realizado en relación de dependencia (conf. Art. 1º, RG 4139.)</a:t>
            </a:r>
            <a:endParaRPr b="0" lang="en-US" sz="1800" spc="-1" strike="noStrike">
              <a:solidFill>
                <a:srgbClr val="000000"/>
              </a:solidFill>
              <a:latin typeface="Georgia"/>
            </a:endParaRPr>
          </a:p>
        </p:txBody>
      </p:sp>
      <p:sp>
        <p:nvSpPr>
          <p:cNvPr id="675"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D34A-308B-4677-BD41-9A7FF708E2F8}"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Revocatoria de la multa por omisión por error excusable</a:t>
            </a:r>
            <a:endParaRPr b="0" lang="en-US" sz="3600" spc="-1" strike="noStrike">
              <a:solidFill>
                <a:srgbClr val="8c438f"/>
              </a:solidFill>
              <a:latin typeface="Georgia"/>
            </a:endParaRPr>
          </a:p>
        </p:txBody>
      </p:sp>
      <p:sp>
        <p:nvSpPr>
          <p:cNvPr id="677" name=""/>
          <p:cNvSpPr txBox="1"/>
          <p:nvPr/>
        </p:nvSpPr>
        <p:spPr>
          <a:xfrm>
            <a:off x="142920" y="14997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Racing Club Asociación Civil”, TFN, Sala “C” del 31/8/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rPr>
              <a:t>Se revoca la multa por omisión aplicada, por omisión de retenciones en el impuesto a las ganancias, sobre primas y premios percibidos por los jugadores de fútbol profesional, al considerarse que la creencia de que la relación de los jugadores era autónoma, llevó a la actora a incurrir en un error excusable.</a:t>
            </a:r>
            <a:endParaRPr b="0" lang="en-US" sz="2400" spc="-1" strike="noStrike">
              <a:solidFill>
                <a:srgbClr val="000000"/>
              </a:solidFill>
              <a:latin typeface="Georgia"/>
            </a:endParaRPr>
          </a:p>
        </p:txBody>
      </p:sp>
      <p:sp>
        <p:nvSpPr>
          <p:cNvPr id="678"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BF7E-208F-4A1C-B37B-7A03DFE43FEE}"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Improcedencia del IGMP en el caso de una empresa en quiebra</a:t>
            </a:r>
            <a:endParaRPr b="0" lang="en-US" sz="3600" spc="-1" strike="noStrike">
              <a:solidFill>
                <a:srgbClr val="8c438f"/>
              </a:solidFill>
              <a:latin typeface="Georgia"/>
            </a:endParaRPr>
          </a:p>
        </p:txBody>
      </p:sp>
      <p:sp>
        <p:nvSpPr>
          <p:cNvPr id="680" name=""/>
          <p:cNvSpPr txBox="1"/>
          <p:nvPr/>
        </p:nvSpPr>
        <p:spPr>
          <a:xfrm>
            <a:off x="142920" y="14997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Causa: “Ecoagro SA”, TFN, Sala “C” del 11/8/11</a:t>
            </a:r>
            <a:endParaRPr b="0" lang="en-US" sz="24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Se revoca la resolución apelada, a través de la cual se había determinado el IGMP, al tratarse de una empresa que al momento de dictado de la sentencia se encontraba en proceso falencial y en atención a la doctrina de la CSN (“Hermitage SA” del 15/6/2010) que hace que la determinación practicada por el Fisco deviene irrazonable y no conforme a derecho.</a:t>
            </a:r>
            <a:endParaRPr b="0" lang="en-US" sz="2800" spc="-1" strike="noStrike">
              <a:solidFill>
                <a:srgbClr val="000000"/>
              </a:solidFill>
              <a:latin typeface="Georgia"/>
            </a:endParaRPr>
          </a:p>
        </p:txBody>
      </p:sp>
      <p:sp>
        <p:nvSpPr>
          <p:cNvPr id="681"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CD51-C8A2-4812-B1C3-1144B0054A85}"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Inconstitucionalidad de la gravación de la venta de acciones que no cotizan en bolsa en el impuesto a las ganancias</a:t>
            </a:r>
            <a:endParaRPr b="0" lang="en-US" sz="2400" spc="-1" strike="noStrike">
              <a:solidFill>
                <a:srgbClr val="8c438f"/>
              </a:solidFill>
              <a:latin typeface="Georgia"/>
            </a:endParaRPr>
          </a:p>
        </p:txBody>
      </p:sp>
      <p:sp>
        <p:nvSpPr>
          <p:cNvPr id="683" name=""/>
          <p:cNvSpPr txBox="1"/>
          <p:nvPr/>
        </p:nvSpPr>
        <p:spPr>
          <a:xfrm>
            <a:off x="142920" y="135684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eorgia"/>
              </a:rPr>
              <a:t>Causa: “Djaparidze, Levan Roberto”, CSN, 19/4/11</a:t>
            </a:r>
            <a:endParaRPr b="0" lang="en-US" sz="18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Corresponde declarar la inconstitucionalidad del art. 1, apartado II, inc. a) de la Ley 25.414 que delegó en el Poder Ejecutivo la atribución de eliminar exenciones tributarias y del decreto 493/2001 que, en uso de las referidas facultades, eliminó del Impuesto a las Ganancias la franquicia dispuesta para los resultados provenientes de operaciones de compraventa de acciones que no cotizan en bolsa por personas físicas, pues, en virtud del principio de legalidad, no puede convalidarse la derogación de una exención a través de un decreto, en tanto el Poder Legislativo es el único órgano facultado para ello.</a:t>
            </a:r>
            <a:endParaRPr b="0" lang="en-US" sz="2000" spc="-1" strike="noStrike">
              <a:solidFill>
                <a:srgbClr val="000000"/>
              </a:solidFill>
              <a:latin typeface="Georgia"/>
            </a:endParaRPr>
          </a:p>
          <a:p>
            <a:pPr lvl="1" marL="5428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fallo CCAF, Sala III, del 22/3/10</a:t>
            </a:r>
            <a:r>
              <a:rPr b="0" lang="es-ES_tradnl" sz="1500" spc="-1" strike="noStrike">
                <a:solidFill>
                  <a:srgbClr val="000000"/>
                </a:solidFill>
                <a:latin typeface="Georgia"/>
              </a:rPr>
              <a:t>)</a:t>
            </a:r>
            <a:endParaRPr b="0" lang="en-US" sz="1500" spc="-1" strike="noStrike">
              <a:solidFill>
                <a:srgbClr val="424456"/>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Georgia"/>
              </a:rPr>
              <a:t>NOTA</a:t>
            </a:r>
            <a:r>
              <a:rPr b="0" lang="es-ES_tradnl" sz="2000" spc="-1" strike="noStrike">
                <a:solidFill>
                  <a:srgbClr val="000000"/>
                </a:solidFill>
                <a:latin typeface="Georgia"/>
              </a:rPr>
              <a:t>: la CSN rechazó el recurso extraordinario por inadmisible (Art. 280 CPCCN).</a:t>
            </a:r>
            <a:endParaRPr b="0" lang="en-US" sz="2000" spc="-1" strike="noStrike">
              <a:solidFill>
                <a:srgbClr val="000000"/>
              </a:solidFill>
              <a:latin typeface="Georgia"/>
            </a:endParaRPr>
          </a:p>
        </p:txBody>
      </p:sp>
      <p:sp>
        <p:nvSpPr>
          <p:cNvPr id="684"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EAC14-4F2E-4730-B159-9BFA15C686A7}"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Reencuadramiento multa por omisión ante la falta de demostración del ardid en el caso de DDJJ rectificativas</a:t>
            </a:r>
            <a:endParaRPr b="0" lang="en-US" sz="2400" spc="-1" strike="noStrike">
              <a:solidFill>
                <a:srgbClr val="8c438f"/>
              </a:solidFill>
              <a:latin typeface="Georgia"/>
            </a:endParaRPr>
          </a:p>
        </p:txBody>
      </p:sp>
      <p:sp>
        <p:nvSpPr>
          <p:cNvPr id="686" name=""/>
          <p:cNvSpPr txBox="1"/>
          <p:nvPr/>
        </p:nvSpPr>
        <p:spPr>
          <a:xfrm>
            <a:off x="142920" y="135684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s: “Now Loading SRL”, 14/10/11 y “Visor Graphics SRL”, 13/12/11, TFN</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Corresponde recalificar la conducta, encuadrándola en el Art. 45 de la ley 11683, pues si bien el elemento objetivo de tipo infraccional ha quedado satisfecho a partir de la propia rectificación efectuada por el contribuyente de sus DDJJ originales, no se admite la presencia de maniobras u ocultaciones ardidosas para la configuración del delito de defraudación fiscal (Art. 46, ley 11683).</a:t>
            </a:r>
            <a:endParaRPr b="0" lang="en-US" sz="2800" spc="-1" strike="noStrike">
              <a:solidFill>
                <a:srgbClr val="000000"/>
              </a:solidFill>
              <a:latin typeface="Georgia"/>
            </a:endParaRPr>
          </a:p>
        </p:txBody>
      </p:sp>
      <p:sp>
        <p:nvSpPr>
          <p:cNvPr id="687"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3F22-3F6C-4E14-A736-53CEE6D15388}"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Asimilación de la compensación de “pago” (Art. 18 L.I.G.) a los efectos de la procedencia de su deducción como gasto</a:t>
            </a:r>
            <a:endParaRPr b="0" lang="en-US" sz="2400" spc="-1" strike="noStrike">
              <a:solidFill>
                <a:srgbClr val="8c438f"/>
              </a:solidFill>
              <a:latin typeface="Georgia"/>
            </a:endParaRPr>
          </a:p>
        </p:txBody>
      </p:sp>
      <p:sp>
        <p:nvSpPr>
          <p:cNvPr id="689" name=""/>
          <p:cNvSpPr txBox="1"/>
          <p:nvPr/>
        </p:nvSpPr>
        <p:spPr>
          <a:xfrm>
            <a:off x="214200" y="164268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Helmerich &amp; Payne Argentina Drilling Co”, TFN, Sala “A” del 30/8/2011</a:t>
            </a:r>
            <a:endParaRPr b="0" lang="en-US" sz="16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Georgia"/>
              </a:rPr>
              <a:t>La compensación resulta asimilable al “pago” a los efectos de admitir su deducción como gasto.</a:t>
            </a:r>
            <a:endParaRPr b="0" lang="en-US" sz="1800" spc="-1" strike="noStrike">
              <a:solidFill>
                <a:srgbClr val="000000"/>
              </a:solidFill>
              <a:latin typeface="Georgia"/>
            </a:endParaRPr>
          </a:p>
        </p:txBody>
      </p:sp>
      <p:sp>
        <p:nvSpPr>
          <p:cNvPr id="690"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9744-4A8D-48A1-858B-B2B2458A50C9}"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
        <p:nvSpPr>
          <p:cNvPr id="691" name="4 Elipse"/>
          <p:cNvSpPr/>
          <p:nvPr/>
        </p:nvSpPr>
        <p:spPr>
          <a:xfrm>
            <a:off x="428760" y="2643120"/>
            <a:ext cx="2000160" cy="1571760"/>
          </a:xfrm>
          <a:prstGeom prst="ellipse">
            <a:avLst/>
          </a:prstGeom>
          <a:solidFill>
            <a:srgbClr val="53548a"/>
          </a:solidFill>
          <a:ln w="11520">
            <a:solidFill>
              <a:srgbClr val="3b3b64"/>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eorgia"/>
              </a:rPr>
              <a:t>BOLIVIA</a:t>
            </a:r>
            <a:endParaRPr b="0" lang="en-US" sz="1800" spc="-1" strike="noStrike">
              <a:solidFill>
                <a:srgbClr val="000000"/>
              </a:solidFill>
              <a:latin typeface="Arial"/>
            </a:endParaRPr>
          </a:p>
        </p:txBody>
      </p:sp>
      <p:sp>
        <p:nvSpPr>
          <p:cNvPr id="692" name="5 Elipse"/>
          <p:cNvSpPr/>
          <p:nvPr/>
        </p:nvSpPr>
        <p:spPr>
          <a:xfrm>
            <a:off x="3500280" y="2643120"/>
            <a:ext cx="2000520" cy="1571760"/>
          </a:xfrm>
          <a:prstGeom prst="ellipse">
            <a:avLst/>
          </a:prstGeom>
          <a:solidFill>
            <a:srgbClr val="53548a"/>
          </a:solidFill>
          <a:ln w="11520">
            <a:solidFill>
              <a:srgbClr val="3b3b64"/>
            </a:solidFill>
            <a:prstDash val="sysDash"/>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eorgia"/>
              </a:rPr>
              <a:t>ARGENTINA</a:t>
            </a:r>
            <a:endParaRPr b="0" lang="en-US" sz="1800" spc="-1" strike="noStrike">
              <a:solidFill>
                <a:srgbClr val="000000"/>
              </a:solidFill>
              <a:latin typeface="Arial"/>
            </a:endParaRPr>
          </a:p>
        </p:txBody>
      </p:sp>
      <p:sp>
        <p:nvSpPr>
          <p:cNvPr id="693" name="6 Elipse"/>
          <p:cNvSpPr/>
          <p:nvPr/>
        </p:nvSpPr>
        <p:spPr>
          <a:xfrm>
            <a:off x="6572160" y="2643120"/>
            <a:ext cx="2000520" cy="1571760"/>
          </a:xfrm>
          <a:prstGeom prst="ellipse">
            <a:avLst/>
          </a:prstGeom>
          <a:solidFill>
            <a:srgbClr val="53548a"/>
          </a:solidFill>
          <a:ln w="11520">
            <a:solidFill>
              <a:srgbClr val="3b3b64"/>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ffffff"/>
                </a:solidFill>
                <a:latin typeface="Georgia"/>
              </a:rPr>
              <a:t>CLIENTES</a:t>
            </a:r>
            <a:endParaRPr b="0" lang="en-US" sz="1800" spc="-1" strike="noStrike">
              <a:solidFill>
                <a:srgbClr val="000000"/>
              </a:solidFill>
              <a:latin typeface="Arial"/>
            </a:endParaRPr>
          </a:p>
        </p:txBody>
      </p:sp>
      <p:cxnSp>
        <p:nvCxnSpPr>
          <p:cNvPr id="694" name="10 Conector angular"/>
          <p:cNvCxnSpPr>
            <a:stCxn id="692" idx="0"/>
            <a:endCxn id="691" idx="0"/>
          </p:cNvCxnSpPr>
          <p:nvPr/>
        </p:nvCxnSpPr>
        <p:spPr>
          <a:xfrm flipV="1" rot="16200000">
            <a:off x="2963520" y="1105920"/>
            <a:ext cx="2160" cy="3072600"/>
          </a:xfrm>
          <a:prstGeom prst="bentConnector3">
            <a:avLst>
              <a:gd name="adj1" fmla="val 14380000"/>
            </a:avLst>
          </a:prstGeom>
          <a:ln w="9360">
            <a:solidFill>
              <a:srgbClr val="000000"/>
            </a:solidFill>
            <a:miter/>
            <a:headEnd len="med" type="triangle" w="med"/>
            <a:tailEnd len="med" type="triangle" w="med"/>
          </a:ln>
        </p:spPr>
      </p:cxnSp>
      <p:cxnSp>
        <p:nvCxnSpPr>
          <p:cNvPr id="695" name="12 Conector recto de flecha"/>
          <p:cNvCxnSpPr>
            <a:stCxn id="691" idx="6"/>
            <a:endCxn id="692" idx="2"/>
          </p:cNvCxnSpPr>
          <p:nvPr/>
        </p:nvCxnSpPr>
        <p:spPr>
          <a:xfrm>
            <a:off x="2428920" y="3429000"/>
            <a:ext cx="1072080" cy="2160"/>
          </a:xfrm>
          <a:prstGeom prst="straightConnector1">
            <a:avLst/>
          </a:prstGeom>
          <a:ln w="9360">
            <a:solidFill>
              <a:srgbClr val="000000"/>
            </a:solidFill>
            <a:miter/>
            <a:tailEnd len="med" type="triangle" w="med"/>
          </a:ln>
        </p:spPr>
      </p:cxnSp>
      <p:cxnSp>
        <p:nvCxnSpPr>
          <p:cNvPr id="696" name="14 Conector recto de flecha"/>
          <p:cNvCxnSpPr>
            <a:stCxn id="692" idx="6"/>
            <a:endCxn id="693" idx="2"/>
          </p:cNvCxnSpPr>
          <p:nvPr/>
        </p:nvCxnSpPr>
        <p:spPr>
          <a:xfrm>
            <a:off x="5500800" y="3429000"/>
            <a:ext cx="1072080" cy="2160"/>
          </a:xfrm>
          <a:prstGeom prst="straightConnector1">
            <a:avLst/>
          </a:prstGeom>
          <a:ln w="9360">
            <a:solidFill>
              <a:srgbClr val="000000"/>
            </a:solidFill>
            <a:miter/>
            <a:tailEnd len="med" type="triangle" w="med"/>
          </a:ln>
        </p:spPr>
      </p:cxnSp>
      <p:cxnSp>
        <p:nvCxnSpPr>
          <p:cNvPr id="697" name="16 Conector angular"/>
          <p:cNvCxnSpPr>
            <a:stCxn id="693" idx="4"/>
            <a:endCxn id="691" idx="4"/>
          </p:cNvCxnSpPr>
          <p:nvPr/>
        </p:nvCxnSpPr>
        <p:spPr>
          <a:xfrm rot="5400000">
            <a:off x="4500000" y="1143000"/>
            <a:ext cx="2160" cy="6145920"/>
          </a:xfrm>
          <a:prstGeom prst="bentConnector3">
            <a:avLst>
              <a:gd name="adj1" fmla="val 25020000"/>
            </a:avLst>
          </a:prstGeom>
          <a:ln w="9360">
            <a:solidFill>
              <a:srgbClr val="000000"/>
            </a:solidFill>
            <a:miter/>
            <a:tailEnd len="med" type="triangle" w="med"/>
          </a:ln>
        </p:spPr>
      </p:cxnSp>
      <p:cxnSp>
        <p:nvCxnSpPr>
          <p:cNvPr id="698" name="18 Conector angular"/>
          <p:cNvCxnSpPr>
            <a:stCxn id="691" idx="3"/>
            <a:endCxn id="692" idx="4"/>
          </p:cNvCxnSpPr>
          <p:nvPr/>
        </p:nvCxnSpPr>
        <p:spPr>
          <a:xfrm flipH="1" rot="16200000">
            <a:off x="2496240" y="2210040"/>
            <a:ext cx="231120" cy="3779280"/>
          </a:xfrm>
          <a:prstGeom prst="bentConnector3">
            <a:avLst>
              <a:gd name="adj1" fmla="val 410920"/>
            </a:avLst>
          </a:prstGeom>
          <a:ln w="9360">
            <a:solidFill>
              <a:srgbClr val="000000"/>
            </a:solidFill>
            <a:miter/>
            <a:tailEnd len="med" type="triangle" w="med"/>
          </a:ln>
        </p:spPr>
      </p:cxnSp>
      <p:sp>
        <p:nvSpPr>
          <p:cNvPr id="699" name="22 Rectángulo"/>
          <p:cNvSpPr/>
          <p:nvPr/>
        </p:nvSpPr>
        <p:spPr>
          <a:xfrm>
            <a:off x="1357200" y="2500200"/>
            <a:ext cx="3143520" cy="21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ea typeface="Arial"/>
              </a:rPr>
              <a:t>EMPRESAS VINCULADAS</a:t>
            </a:r>
            <a:endParaRPr b="0" lang="en-US" sz="1100" spc="-1" strike="noStrike">
              <a:solidFill>
                <a:srgbClr val="000000"/>
              </a:solidFill>
              <a:latin typeface="Arial"/>
            </a:endParaRPr>
          </a:p>
        </p:txBody>
      </p:sp>
      <p:sp>
        <p:nvSpPr>
          <p:cNvPr id="700" name="23 Rectángulo"/>
          <p:cNvSpPr/>
          <p:nvPr/>
        </p:nvSpPr>
        <p:spPr>
          <a:xfrm>
            <a:off x="4929120" y="3643200"/>
            <a:ext cx="2286000" cy="214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ea typeface="Arial"/>
              </a:rPr>
              <a:t>SERVICIOS</a:t>
            </a:r>
            <a:endParaRPr b="0" lang="en-US" sz="1100" spc="-1" strike="noStrike">
              <a:solidFill>
                <a:srgbClr val="000000"/>
              </a:solidFill>
              <a:latin typeface="Arial"/>
            </a:endParaRPr>
          </a:p>
        </p:txBody>
      </p:sp>
      <p:sp>
        <p:nvSpPr>
          <p:cNvPr id="701" name="24 Rectángulo"/>
          <p:cNvSpPr/>
          <p:nvPr/>
        </p:nvSpPr>
        <p:spPr>
          <a:xfrm>
            <a:off x="2143080" y="3571920"/>
            <a:ext cx="157176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ea typeface="Arial"/>
              </a:rPr>
              <a:t>ALQUILER DE EQUIPOS</a:t>
            </a:r>
            <a:endParaRPr b="0" lang="en-US" sz="1100" spc="-1" strike="noStrike">
              <a:solidFill>
                <a:srgbClr val="000000"/>
              </a:solidFill>
              <a:latin typeface="Arial"/>
            </a:endParaRPr>
          </a:p>
        </p:txBody>
      </p:sp>
      <p:sp>
        <p:nvSpPr>
          <p:cNvPr id="702" name="25 Rectángulo"/>
          <p:cNvSpPr/>
          <p:nvPr/>
        </p:nvSpPr>
        <p:spPr>
          <a:xfrm>
            <a:off x="2500200" y="4357800"/>
            <a:ext cx="1928880" cy="21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ea typeface="Arial"/>
              </a:rPr>
              <a:t>PAGO</a:t>
            </a:r>
            <a:endParaRPr b="0" lang="en-US" sz="1100" spc="-1" strike="noStrike">
              <a:solidFill>
                <a:srgbClr val="000000"/>
              </a:solidFill>
              <a:latin typeface="Arial"/>
            </a:endParaRPr>
          </a:p>
        </p:txBody>
      </p:sp>
      <p:sp>
        <p:nvSpPr>
          <p:cNvPr id="703" name="27 Rectángulo"/>
          <p:cNvSpPr/>
          <p:nvPr/>
        </p:nvSpPr>
        <p:spPr>
          <a:xfrm>
            <a:off x="1143000" y="5072040"/>
            <a:ext cx="3143160" cy="21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ea typeface="Arial"/>
              </a:rPr>
              <a:t>REPORTE DE SITUACIÓN</a:t>
            </a:r>
            <a:endParaRPr b="0" lang="en-US" sz="1100" spc="-1" strike="noStrike">
              <a:solidFill>
                <a:srgbClr val="000000"/>
              </a:solidFill>
              <a:latin typeface="Arial"/>
            </a:endParaRPr>
          </a:p>
        </p:txBody>
      </p:sp>
      <p:sp>
        <p:nvSpPr>
          <p:cNvPr id="704" name="28 Rectángulo"/>
          <p:cNvSpPr/>
          <p:nvPr/>
        </p:nvSpPr>
        <p:spPr>
          <a:xfrm>
            <a:off x="4786200" y="4786200"/>
            <a:ext cx="3143520" cy="857520"/>
          </a:xfrm>
          <a:prstGeom prst="rect">
            <a:avLst/>
          </a:prstGeom>
          <a:solidFill>
            <a:srgbClr val="ffffff"/>
          </a:solidFill>
          <a:ln w="3240">
            <a:solidFill>
              <a:srgbClr val="000000"/>
            </a:solidFill>
            <a:prstDash val="sysDash"/>
            <a:miter/>
          </a:ln>
        </p:spPr>
        <p:style>
          <a:lnRef idx="0"/>
          <a:fillRef idx="0"/>
          <a:effectRef idx="0"/>
          <a:fontRef idx="minor"/>
        </p:style>
        <p:txBody>
          <a:bodyPr lIns="90000" rIns="90000" tIns="46800" bIns="46800" anchor="ctr">
            <a:noAutofit/>
          </a:bodyPr>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ea typeface="Arial"/>
              </a:rPr>
              <a:t>EMPRESAS DE COBRO DE SERVICIOS</a:t>
            </a:r>
            <a:endParaRPr b="0" lang="en-US" sz="11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ea typeface="Arial"/>
              </a:rPr>
              <a:t>PAGO DEUDA DE ALQUILERES POR COMPENSACIÓN</a:t>
            </a:r>
            <a:endParaRPr b="0" lang="en-US" sz="1100" spc="-1" strike="noStrike">
              <a:solidFill>
                <a:srgbClr val="000000"/>
              </a:solidFill>
              <a:latin typeface="Arial"/>
            </a:endParaRPr>
          </a:p>
          <a:p>
            <a:pPr marL="179280" indent="-179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ea typeface="Arial"/>
              </a:rPr>
              <a:t>RETENCIÓN CON CARÁCTER DE PAGO ÚNICO Y DEFINITIVO</a:t>
            </a:r>
            <a:endParaRPr b="0" lang="en-US" sz="1100" spc="-1" strike="noStrike">
              <a:solidFill>
                <a:srgbClr val="000000"/>
              </a:solidFill>
              <a:latin typeface="Arial"/>
            </a:endParaRPr>
          </a:p>
        </p:txBody>
      </p:sp>
      <p:cxnSp>
        <p:nvCxnSpPr>
          <p:cNvPr id="705" name="30 Conector recto de flecha"/>
          <p:cNvCxnSpPr>
            <a:stCxn id="692" idx="5"/>
            <a:endCxn id="704" idx="0"/>
          </p:cNvCxnSpPr>
          <p:nvPr/>
        </p:nvCxnSpPr>
        <p:spPr>
          <a:xfrm>
            <a:off x="5205960" y="3984120"/>
            <a:ext cx="1151640" cy="802440"/>
          </a:xfrm>
          <a:prstGeom prst="straightConnector1">
            <a:avLst/>
          </a:prstGeom>
          <a:ln w="9360">
            <a:solidFill>
              <a:srgbClr val="000000"/>
            </a:solidFill>
            <a:miter/>
            <a:tailEnd len="med" type="triangle" w="med"/>
          </a:ln>
        </p:spPr>
      </p:cxn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Tratamiento de los ingresos de directora artística y productora general de una obra teatral en el impuesto a las ganancias</a:t>
            </a:r>
            <a:endParaRPr b="0" lang="en-US" sz="2400" spc="-1" strike="noStrike">
              <a:solidFill>
                <a:srgbClr val="8c438f"/>
              </a:solidFill>
              <a:latin typeface="Georgia"/>
            </a:endParaRPr>
          </a:p>
        </p:txBody>
      </p:sp>
      <p:sp>
        <p:nvSpPr>
          <p:cNvPr id="707" name=""/>
          <p:cNvSpPr txBox="1"/>
          <p:nvPr/>
        </p:nvSpPr>
        <p:spPr>
          <a:xfrm>
            <a:off x="142920" y="135684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Causas: “De Giacomi, Maria Cristina”, TFN, Sala “A” del 23/8/11</a:t>
            </a:r>
            <a:endParaRPr b="0" lang="en-US" sz="24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eorgia"/>
              </a:rPr>
              <a:t>Se revoca la resolución apelada, en cuanto consideró gravados en el tributo a los ingresos de la directora artística y productora general de una obra teatral por incumplimiento de los requisitos previstos por el Dto. 6073/58, en razón que los mismos se refieren a créditos y subvenciones.</a:t>
            </a:r>
            <a:endParaRPr b="0" lang="en-US" sz="3200" spc="-1" strike="noStrike">
              <a:solidFill>
                <a:srgbClr val="000000"/>
              </a:solidFill>
              <a:latin typeface="Georgia"/>
            </a:endParaRPr>
          </a:p>
        </p:txBody>
      </p:sp>
      <p:sp>
        <p:nvSpPr>
          <p:cNvPr id="708"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7A6C-3615-4C38-B77C-A406EF8AD195}"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85840" y="571320"/>
            <a:ext cx="853416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Improcedencia de la extinción de la acción penal por acogimiento a moratoria al no abarcar la pretensión fiscal (II)</a:t>
            </a:r>
            <a:endParaRPr b="0" lang="en-US" sz="2400" spc="-1" strike="noStrike">
              <a:solidFill>
                <a:srgbClr val="8c438f"/>
              </a:solidFill>
              <a:latin typeface="Georgia"/>
            </a:endParaRPr>
          </a:p>
        </p:txBody>
      </p:sp>
      <p:sp>
        <p:nvSpPr>
          <p:cNvPr id="614" name=""/>
          <p:cNvSpPr txBox="1"/>
          <p:nvPr/>
        </p:nvSpPr>
        <p:spPr>
          <a:xfrm>
            <a:off x="142920" y="1356840"/>
            <a:ext cx="8842320" cy="5072040"/>
          </a:xfrm>
          <a:prstGeom prst="rect">
            <a:avLst/>
          </a:prstGeom>
          <a:noFill/>
          <a:ln w="0">
            <a:noFill/>
          </a:ln>
        </p:spPr>
        <p:txBody>
          <a:bodyPr anchor="t">
            <a:normAutofit fontScale="99000"/>
          </a:bodyPr>
          <a:p>
            <a:pPr marL="177480" indent="-1774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Georgia"/>
              </a:rPr>
              <a:t>En este sentido, se ha expresado: "...por el art. 2 de la ley 26.476 se establece que quedan incluidas en el régimen previsto por la norma "...aquellas obligaciones que se encuentren en curso de discusión administrativa...en tanto el demandado se allanare incondicionalmente y, en su caso, desista y renuncie a toda acción y derecho, incluso el de repetición, asumiendo el pago de las costas y gastos causídicos" y por el penúltimo párrafo del art. 41 de la ley 26.476 se establece, como condición para el acogimiento al régimen, la renuncia a la promoción de cualquier procedimiento judicial o administrativo con relación a las disposiciones del decreto 1043/03 o para reclamar con fines impositivos la aplicación de procedimientos de actualización de cualquier naturaleza y, en su caso, el desistimiento de las acciones y derechos en aquellos procesos que ya estuvieran iniciados.</a:t>
            </a:r>
            <a:endParaRPr b="0" lang="en-US" sz="1900" spc="-1" strike="noStrike">
              <a:solidFill>
                <a:srgbClr val="000000"/>
              </a:solidFill>
              <a:latin typeface="Georgia"/>
            </a:endParaRPr>
          </a:p>
          <a:p>
            <a:pPr marL="177480" indent="-1774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Georgia"/>
              </a:rPr>
              <a:t>En este sentido, "...lo previsto por el penúltimo párrafo del art. 41 de la ley 26.476…se trata de una condición o exigencia para la procedencia de los beneficios contemplados por la ley citada para los casos no excluidos por las previsiones legales…”.</a:t>
            </a:r>
            <a:endParaRPr b="0" lang="en-US" sz="1900" spc="-1" strike="noStrike">
              <a:solidFill>
                <a:srgbClr val="000000"/>
              </a:solidFill>
              <a:latin typeface="Georgia"/>
            </a:endParaRPr>
          </a:p>
        </p:txBody>
      </p:sp>
      <p:sp>
        <p:nvSpPr>
          <p:cNvPr id="615"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A072C-429B-4E36-B2BC-C79108078238}"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Gravabilidad de los servicios de apareamiento de caballos</a:t>
            </a:r>
            <a:endParaRPr b="0" lang="en-US" sz="3600" spc="-1" strike="noStrike">
              <a:solidFill>
                <a:srgbClr val="8c438f"/>
              </a:solidFill>
              <a:latin typeface="Georgia"/>
            </a:endParaRPr>
          </a:p>
        </p:txBody>
      </p:sp>
      <p:sp>
        <p:nvSpPr>
          <p:cNvPr id="710" name=""/>
          <p:cNvSpPr txBox="1"/>
          <p:nvPr/>
        </p:nvSpPr>
        <p:spPr>
          <a:xfrm>
            <a:off x="142920" y="135684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Tribolet, Thomas Michel”, TFN, Sala “A” del 23/8/2011</a:t>
            </a:r>
            <a:endParaRPr b="0" lang="en-US" sz="16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Corresponde recalificar la conducta, encuadrándola en el Art. 45 de la ley 11683, pues si bien el elemento objetivo de tipo infraccional ha quedado satisfecho a partir de la propia rectificación efectuada por el contribuyente de sus DDJJ originales, no se admite la presencia de maniobras u ocultaciones ardidosas para la configuración del delito de defraudación fiscal (Art. 46, ley 11683).</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Atento a las deficiencias que exhiben las informativas presentadas ; pericial contable, el examen de la prueba producida en autos permite concluir que los medie elementos presentados no resultan idóneos y suficientes para formar convicción que sugiera dejar sin efecto la postura del Fisco Nacional.</a:t>
            </a:r>
            <a:endParaRPr b="0" lang="en-US" sz="2000" spc="-1" strike="noStrike">
              <a:solidFill>
                <a:srgbClr val="000000"/>
              </a:solidFill>
              <a:latin typeface="Georgia"/>
            </a:endParaRPr>
          </a:p>
        </p:txBody>
      </p:sp>
      <p:sp>
        <p:nvSpPr>
          <p:cNvPr id="711"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86CE-253D-4A05-8312-6B38D52852A5}"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213840" y="214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Georgia"/>
              </a:rPr>
              <a:t>Deducción de intereses y el principio de universalidad del pasivo (I)</a:t>
            </a:r>
            <a:endParaRPr b="0" lang="en-US" sz="3200" spc="-1" strike="noStrike">
              <a:solidFill>
                <a:srgbClr val="8c438f"/>
              </a:solidFill>
              <a:latin typeface="Georgia"/>
            </a:endParaRPr>
          </a:p>
        </p:txBody>
      </p:sp>
      <p:sp>
        <p:nvSpPr>
          <p:cNvPr id="713" name=""/>
          <p:cNvSpPr txBox="1"/>
          <p:nvPr/>
        </p:nvSpPr>
        <p:spPr>
          <a:xfrm>
            <a:off x="142920" y="1214280"/>
            <a:ext cx="8786880" cy="5072400"/>
          </a:xfrm>
          <a:prstGeom prst="rect">
            <a:avLst/>
          </a:prstGeom>
          <a:noFill/>
          <a:ln w="0">
            <a:noFill/>
          </a:ln>
        </p:spPr>
        <p:txBody>
          <a:bodyPr anchor="t">
            <a:normAutofit fontScale="94000"/>
          </a:bodyPr>
          <a:p>
            <a:pPr marL="168480" indent="-168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Causa: “SA Importadora y Exportadora de la Patagonia”, TFN, Sala “A” del 17/8/11</a:t>
            </a:r>
            <a:endParaRPr b="0" lang="en-US" sz="1200" spc="-1" strike="noStrike">
              <a:solidFill>
                <a:srgbClr val="000000"/>
              </a:solidFill>
              <a:latin typeface="Georgia"/>
            </a:endParaRPr>
          </a:p>
          <a:p>
            <a:pPr marL="168480" indent="-1684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El principio de la universalidad del pasivo podría ceder en razón de las normas y reglas propias de la contabilidad.</a:t>
            </a:r>
            <a:endParaRPr b="0" lang="en-US" sz="1500" spc="-1" strike="noStrike">
              <a:solidFill>
                <a:srgbClr val="000000"/>
              </a:solidFill>
              <a:latin typeface="Georgia"/>
            </a:endParaRPr>
          </a:p>
          <a:p>
            <a:pPr marL="168480" indent="-1684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Pero la excepción antedicha requiere inexcusablemente que se acredite la efectiva aplicación de los fondos que generaron el pasivo a la actividad a la cual se atribuye. De lo contrario, ello podría llevar a la afectación del pasivo por razones que no correspondan a esa realidad e, inclusive, originar maniobras evasivas tendientes a ubicar a aquel según convenga, atendiendo a la actividad gravada o exenta del responsable.</a:t>
            </a:r>
            <a:endParaRPr b="0" lang="en-US" sz="1500" spc="-1" strike="noStrike">
              <a:solidFill>
                <a:srgbClr val="000000"/>
              </a:solidFill>
              <a:latin typeface="Georgia"/>
            </a:endParaRPr>
          </a:p>
          <a:p>
            <a:pPr marL="168480" indent="-1684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Georgia"/>
              </a:rPr>
              <a:t>En definitiva, en defecto de esa demostración, debe operar el principio de la universalidad del pasivo, en el sentido de considerar que éste afecta toda la contabilidad de la empresa.</a:t>
            </a:r>
            <a:endParaRPr b="0" lang="en-US" sz="1500" spc="-1" strike="noStrike">
              <a:solidFill>
                <a:srgbClr val="000000"/>
              </a:solidFill>
              <a:latin typeface="Georgia"/>
            </a:endParaRPr>
          </a:p>
          <a:p>
            <a:pPr marL="168480" indent="-168480">
              <a:spcBef>
                <a:spcPts val="374"/>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Georgia"/>
              </a:rPr>
              <a:t>Bajo tales pautas interpretativas, a los fines de admitir la deducción total de los intereses tal como pretende la actora, resulta ineludible la demostración de la relación de causalidad entre el interés y la renta a ia que accede, esto es, de su asignación directa a la fuente productora de la ganancia gravada, correspondiendo por ende al contribuyente la carga probatoria de tal extremo.</a:t>
            </a:r>
            <a:endParaRPr b="0" lang="en-US" sz="1500" spc="-1" strike="noStrike">
              <a:solidFill>
                <a:srgbClr val="000000"/>
              </a:solidFill>
              <a:latin typeface="Georgia"/>
            </a:endParaRPr>
          </a:p>
          <a:p>
            <a:pPr marL="168480" indent="-168480">
              <a:spcBef>
                <a:spcPts val="374"/>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Georgia"/>
              </a:rPr>
              <a:t>Ante la ausencia de prueba suficiente, corresponderá proporcionar los intereses en orden a las rentas gravadas y exentas (cfr. art. 120 DR LIG).</a:t>
            </a:r>
            <a:endParaRPr b="0" lang="en-US" sz="1500" spc="-1" strike="noStrike">
              <a:solidFill>
                <a:srgbClr val="000000"/>
              </a:solidFill>
              <a:latin typeface="Georgia"/>
            </a:endParaRPr>
          </a:p>
          <a:p>
            <a:pPr marL="168480" indent="-168480">
              <a:spcBef>
                <a:spcPts val="374"/>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Georgia"/>
              </a:rPr>
              <a:t>Resta finalmente añadir que, en definitiva, el temperamento expuesto en modo alguno colisiona con el criterio general que adopta la norma tributaria en materia de atribución de gastos. En la especie, la norma propugna que debe estarse principalmente a la atribución directa, y cuando ello no fuera posible por encontrarse los gastos afectados a la obtención de ganancias gravadas y exentas y/o no gravadas, corresponderá efectuar el respectivo prorrateo.</a:t>
            </a:r>
            <a:endParaRPr b="0" lang="en-US" sz="1500" spc="-1" strike="noStrike">
              <a:solidFill>
                <a:srgbClr val="000000"/>
              </a:solidFill>
              <a:latin typeface="Georgia"/>
            </a:endParaRPr>
          </a:p>
        </p:txBody>
      </p:sp>
      <p:sp>
        <p:nvSpPr>
          <p:cNvPr id="714"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C091-13FF-4A79-BE60-71E7E2A63BCD}"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213840" y="214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Georgia"/>
              </a:rPr>
              <a:t>Deducción de intereses y el principio de universalidad del pasivo (II)</a:t>
            </a:r>
            <a:endParaRPr b="0" lang="en-US" sz="3200" spc="-1" strike="noStrike">
              <a:solidFill>
                <a:srgbClr val="8c438f"/>
              </a:solidFill>
              <a:latin typeface="Georgia"/>
            </a:endParaRPr>
          </a:p>
        </p:txBody>
      </p:sp>
      <p:sp>
        <p:nvSpPr>
          <p:cNvPr id="716" name=""/>
          <p:cNvSpPr txBox="1"/>
          <p:nvPr/>
        </p:nvSpPr>
        <p:spPr>
          <a:xfrm>
            <a:off x="142920" y="1285560"/>
            <a:ext cx="8786880" cy="5072040"/>
          </a:xfrm>
          <a:prstGeom prst="rect">
            <a:avLst/>
          </a:prstGeom>
          <a:noFill/>
          <a:ln w="0">
            <a:noFill/>
          </a:ln>
        </p:spPr>
        <p:txBody>
          <a:bodyPr anchor="t">
            <a:normAutofit/>
          </a:bodyPr>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Del examen de la prueba colectada en la causa, no se advierten elementos de convicción con entidad suficiente como para conmover el temperamento fiscal.</a:t>
            </a:r>
            <a:endParaRPr b="0" lang="en-US" sz="16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n efecto, se advierte que los puntos de pericia se encuentran en esencia centrados en la compulsa de los registros contables y papeles de trabajo, sin poner -por otra parte- igual énfasis en otros elementos de prueba.</a:t>
            </a:r>
            <a:endParaRPr b="0" lang="en-US" sz="16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Desde esta perspectiva, las constataciones en la contabilidad que pudieron haber realizado los peritos respecto de los mencionados préstamos, pierden vigor probatorio sin el acompañamiento de otras evidencias.</a:t>
            </a:r>
            <a:endParaRPr b="0" lang="en-US" sz="16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n rigor, la prueba arrimada, sin una adecuada compulsa de la documentación de respaldo o del acompañamiento de otros medios idóneos, se torna insuficiente para demostrar aquello que la actora pretende. En particular, los elementos aportados no permiten demostrar de manera indubitable que la deuda se ha originado en la actividad gravada y que los fondos obtenidos fueron siempre aplicados a la misma.</a:t>
            </a:r>
            <a:endParaRPr b="0" lang="en-US" sz="16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n suma, frente al razonable accionar del ente recaudador, la apelante, en ejercicio de su derecho de contradicción, debió refutar los sobrados elementos colectados por el ente fiscal, debiendo en la especie acreditar la efectiva aplicación de los fondos que generaron el pasivo a la actividad gravada a la cual se atribuye. Ante la deficiente actividad probatoria desplegada en este sentido, el temperamento fiscal debe ser confirmado.</a:t>
            </a:r>
            <a:endParaRPr b="0" lang="en-US" sz="1600" spc="-1" strike="noStrike">
              <a:solidFill>
                <a:srgbClr val="000000"/>
              </a:solidFill>
              <a:latin typeface="Georgia"/>
            </a:endParaRPr>
          </a:p>
        </p:txBody>
      </p:sp>
      <p:sp>
        <p:nvSpPr>
          <p:cNvPr id="717"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5ADF-5862-4E76-ABD6-E4FBBA937932}"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Procedencia de la medida cautelar de no innovar contra misiones ante la pretensión de gravar con el impuesto de sellos los fideicomisos financieros</a:t>
            </a:r>
            <a:endParaRPr b="0" lang="en-US" sz="2400" spc="-1" strike="noStrike">
              <a:solidFill>
                <a:srgbClr val="8c438f"/>
              </a:solidFill>
              <a:latin typeface="Georgia"/>
            </a:endParaRPr>
          </a:p>
        </p:txBody>
      </p:sp>
      <p:sp>
        <p:nvSpPr>
          <p:cNvPr id="719" name=""/>
          <p:cNvSpPr txBox="1"/>
          <p:nvPr/>
        </p:nvSpPr>
        <p:spPr>
          <a:xfrm>
            <a:off x="142920" y="135684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Adeba”, CSN, 6/12/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decreta la prohibición de innovar pedida y se ordena a la provincia de Misiones que, hasta tanto se dicte sentencia definitiva en la causa, se abstenga de ejecutar el impuesto de sellos sobre los contratos de constitución de fideicomisos financieros, determinado en base presunta en proporción a la cantidad de habitantes existentes en la provincia en relación al total de la población del país (2,66%).</a:t>
            </a:r>
            <a:endParaRPr b="0" lang="en-US" sz="2800" spc="-1" strike="noStrike">
              <a:solidFill>
                <a:srgbClr val="000000"/>
              </a:solidFill>
              <a:latin typeface="Georgia"/>
            </a:endParaRPr>
          </a:p>
        </p:txBody>
      </p:sp>
      <p:sp>
        <p:nvSpPr>
          <p:cNvPr id="720"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D65D-CB0D-48C0-838D-B4EF21BEDEE0}"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Procedencia de la estimación presuntiva del IVA en base a los ingresos declarados por el contribuyente en el impuesto a las ganancias</a:t>
            </a:r>
            <a:endParaRPr b="0" lang="en-US" sz="2400" spc="-1" strike="noStrike">
              <a:solidFill>
                <a:srgbClr val="8c438f"/>
              </a:solidFill>
              <a:latin typeface="Georgia"/>
            </a:endParaRPr>
          </a:p>
        </p:txBody>
      </p:sp>
      <p:sp>
        <p:nvSpPr>
          <p:cNvPr id="722" name=""/>
          <p:cNvSpPr txBox="1"/>
          <p:nvPr/>
        </p:nvSpPr>
        <p:spPr>
          <a:xfrm>
            <a:off x="142920" y="135684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Gus Mig SRL”, CSN, 1/11/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confirman los actos administrativos de la AFIP, a través de los cuales se determinó en forma presuntiva el IVA del contribuyente, en base al importe de las operaciones gravadas consignadas por el mismo concepto en el impuesto a las ganancias.</a:t>
            </a:r>
            <a:endParaRPr b="0" lang="en-US" sz="2800" spc="-1" strike="noStrike">
              <a:solidFill>
                <a:srgbClr val="000000"/>
              </a:solidFill>
              <a:latin typeface="Georgia"/>
            </a:endParaRPr>
          </a:p>
        </p:txBody>
      </p:sp>
      <p:sp>
        <p:nvSpPr>
          <p:cNvPr id="723"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31E0-E6C6-4BA7-8EC1-1C700865F15A}"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La contribución municipal facturada por separado en el servicio de energía eléctrica no forma parte de la base imponible del IVA</a:t>
            </a:r>
            <a:endParaRPr b="0" lang="en-US" sz="2400" spc="-1" strike="noStrike">
              <a:solidFill>
                <a:srgbClr val="8c438f"/>
              </a:solidFill>
              <a:latin typeface="Georgia"/>
            </a:endParaRPr>
          </a:p>
        </p:txBody>
      </p:sp>
      <p:sp>
        <p:nvSpPr>
          <p:cNvPr id="725" name=""/>
          <p:cNvSpPr txBox="1"/>
          <p:nvPr/>
        </p:nvSpPr>
        <p:spPr>
          <a:xfrm>
            <a:off x="142920" y="1285560"/>
            <a:ext cx="8858160" cy="5072040"/>
          </a:xfrm>
          <a:prstGeom prst="rect">
            <a:avLst/>
          </a:prstGeom>
          <a:noFill/>
          <a:ln w="0">
            <a:noFill/>
          </a:ln>
        </p:spPr>
        <p:txBody>
          <a:bodyPr anchor="t">
            <a:normAutofit fontScale="97000"/>
          </a:bodyPr>
          <a:p>
            <a:pPr marL="173880" indent="-1738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Causa: “Edesal SA”, CSN, 29/11/11</a:t>
            </a:r>
            <a:endParaRPr b="0" lang="en-US" sz="1200" spc="-1" strike="noStrike">
              <a:solidFill>
                <a:srgbClr val="000000"/>
              </a:solidFill>
              <a:latin typeface="Georgia"/>
            </a:endParaRPr>
          </a:p>
          <a:p>
            <a:pPr marL="173880" indent="-173880">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l Importe de la factura del servicio, que resulta del acuerdo celebrado entre la Provincia de San Luis y sus municipios - homologado por los respectivos concejos deliberantes-, fue concebida como una única tasa que sería recaudada por cuenta de dichos municipios y abonada por los usuarios con el fin de solventar el pago del servicio de alumbrado público, razón por la que, hallándose esta clase de servicio expresamente exceptuado de la sujeción al impuesto al valor agregado (art. 3°, inciso e, punto 5, de la ley), no podría exigirse que aquélla tasa integre la base imponible para el cálculo del mencionado impuesto.</a:t>
            </a:r>
            <a:endParaRPr b="0" lang="en-US" sz="1400" spc="-1" strike="noStrike">
              <a:solidFill>
                <a:srgbClr val="000000"/>
              </a:solidFill>
              <a:latin typeface="Georgia"/>
            </a:endParaRPr>
          </a:p>
          <a:p>
            <a:pPr marL="173880" indent="-173880">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La clásica distinción de impuestos, contribuciones y tasas, tantas veces recordada en la jurisprudencia del Tribunal, no es sino la expresión de diferentes especies o categorías tributarias derivadas del poder de imperio del Estado, y que integran el género de los tributos (ver entre muchos otros: Fallos: 319:3400, considerando 6º y los allí citados; Fallos: 326:4251; dictámenes, de la Procuración General a los que esta Corte remitió en los casos registrados en Fallos: 323:3770 y 332:1503)</a:t>
            </a:r>
            <a:endParaRPr b="0" lang="en-US" sz="1400" spc="-1" strike="noStrike">
              <a:solidFill>
                <a:srgbClr val="000000"/>
              </a:solidFill>
              <a:latin typeface="Georgia"/>
            </a:endParaRPr>
          </a:p>
          <a:p>
            <a:pPr marL="173880" indent="-173880">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Ante la claridad del artículo 44 de la reglamentación de la ley del impuesto al valor agregado, no existe motivo alguno -ni el apelante lo indica-para sostener que cuando aquélla dispone que -en las condiciones que detalla- los “tributos” no integran el precio neto gravado, en verdad, no ha querido referirse a la literalidad de aquel concepto genérico sino solamente a una de las especies, esto es, el impuesto. El rechazo de esta Interpretación sesgada de la norma que propone el apelante -que, por lo demás, no fue planteada ante el a quo-, deja en pie la solución adoptada en la sentencia desde una de las dos perspectivas desarrolladas para abordar la solución del caso, es decir, que aún cuando el servicio de energía eléctrica que presta EDESAL S.A. fuese alcanzado por el impuesto al valor agregado, el concepto discutido en este pleito no podría integrar el precio neto gravado por su condición de "tributo", y por hallarse reunidos los restantes recaudos de la reglamentación.</a:t>
            </a:r>
            <a:endParaRPr b="0" lang="en-US" sz="1400" spc="-1" strike="noStrike">
              <a:solidFill>
                <a:srgbClr val="000000"/>
              </a:solidFill>
              <a:latin typeface="Georgia"/>
            </a:endParaRPr>
          </a:p>
        </p:txBody>
      </p:sp>
      <p:sp>
        <p:nvSpPr>
          <p:cNvPr id="726"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5C07-0D39-4A6E-AEC8-64729F33058F}"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Impugnación de pasivos con familiares</a:t>
            </a:r>
            <a:endParaRPr b="0" lang="en-US" sz="3600" spc="-1" strike="noStrike">
              <a:solidFill>
                <a:srgbClr val="8c438f"/>
              </a:solidFill>
              <a:latin typeface="Georgia"/>
            </a:endParaRPr>
          </a:p>
        </p:txBody>
      </p:sp>
      <p:sp>
        <p:nvSpPr>
          <p:cNvPr id="728" name=""/>
          <p:cNvSpPr txBox="1"/>
          <p:nvPr/>
        </p:nvSpPr>
        <p:spPr>
          <a:xfrm>
            <a:off x="142920" y="135684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Macedo, Diego Cristobal”, TFN, Sala “A” del 30/8/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La falta de demostración de los préstamos efectuados por familiares y la de la procedencia del dinero prestado al contribuyente, concluyen en la existencia de un incremento patrimonial no justificado.</a:t>
            </a:r>
            <a:endParaRPr b="0" lang="en-US" sz="2800" spc="-1" strike="noStrike">
              <a:solidFill>
                <a:srgbClr val="000000"/>
              </a:solidFill>
              <a:latin typeface="Georgia"/>
            </a:endParaRPr>
          </a:p>
        </p:txBody>
      </p:sp>
      <p:sp>
        <p:nvSpPr>
          <p:cNvPr id="729"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3472-9F46-4ECC-A780-1FB11882757A}"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000000"/>
                </a:solidFill>
                <a:latin typeface="Georgia"/>
              </a:rPr>
              <a:t>Revocatoria de la DO por la falta del presupuesto subordinante del método estimativo empleado</a:t>
            </a:r>
            <a:endParaRPr b="0" lang="en-US" sz="2700" spc="-1" strike="noStrike">
              <a:solidFill>
                <a:srgbClr val="8c438f"/>
              </a:solidFill>
              <a:latin typeface="Georgia"/>
            </a:endParaRPr>
          </a:p>
        </p:txBody>
      </p:sp>
      <p:sp>
        <p:nvSpPr>
          <p:cNvPr id="731" name=""/>
          <p:cNvSpPr txBox="1"/>
          <p:nvPr/>
        </p:nvSpPr>
        <p:spPr>
          <a:xfrm>
            <a:off x="142920" y="135684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Mejorar SRL”, TFN, Sala “A” del 18/8/20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revoca la resolución apelada, a no haber acreditado el Fisco Nacional el soporte fáctico que le autoriza a concluir en la inexistencia de documentación que lo habilitara a acudir válidamente al método presuntivo, más allá de la arbitrariedad que se observa en su accionar por las razones que se expondrán en los considerandos subsiguientes, es razón suficiente para revocar la resolución determinativa apelada y la multa aplicada.</a:t>
            </a:r>
            <a:endParaRPr b="0" lang="en-US" sz="2800" spc="-1" strike="noStrike">
              <a:solidFill>
                <a:srgbClr val="000000"/>
              </a:solidFill>
              <a:latin typeface="Georgia"/>
            </a:endParaRPr>
          </a:p>
        </p:txBody>
      </p:sp>
      <p:sp>
        <p:nvSpPr>
          <p:cNvPr id="732"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116C-CBF4-405F-A3D4-0018DDBFE045}"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Georgia"/>
              </a:rPr>
              <a:t>Procedencia del impuesto a las ganancias salidas no documentadas</a:t>
            </a:r>
            <a:endParaRPr b="0" lang="en-US" sz="3200" spc="-1" strike="noStrike">
              <a:solidFill>
                <a:srgbClr val="8c438f"/>
              </a:solidFill>
              <a:latin typeface="Georgia"/>
            </a:endParaRPr>
          </a:p>
        </p:txBody>
      </p:sp>
      <p:sp>
        <p:nvSpPr>
          <p:cNvPr id="734" name=""/>
          <p:cNvSpPr txBox="1"/>
          <p:nvPr/>
        </p:nvSpPr>
        <p:spPr>
          <a:xfrm>
            <a:off x="142920" y="135684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G.D. Computación S.H.”, TFN, Sala “A” del 16/8/20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confirma la resolución determinativa de la obligación de la recurrente frente al impuesto a las ganancias – salidas no documentadas, al haberse impugnado el proveedor por no obedecer a una real operatoria comercial y al encontrarse acreditada la salida de fondos, a través del libramiento de los cheques a nombre de la firma impugnada, pero no así el beneficio de tales fondos (valores cobrados por ventanilla por personas ajenas a la firma).</a:t>
            </a:r>
            <a:endParaRPr b="0" lang="en-US" sz="2800" spc="-1" strike="noStrike">
              <a:solidFill>
                <a:srgbClr val="000000"/>
              </a:solidFill>
              <a:latin typeface="Georgia"/>
            </a:endParaRPr>
          </a:p>
        </p:txBody>
      </p:sp>
      <p:sp>
        <p:nvSpPr>
          <p:cNvPr id="735"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2CDC-A956-46D0-9C27-CD439F1ECF4D}"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13840" y="241200"/>
            <a:ext cx="8929800" cy="10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Georgia"/>
              </a:rPr>
              <a:t>Nulidad de la DO ante las modificaciones de las fundamentaciones que dieron sustento a la vista</a:t>
            </a:r>
            <a:endParaRPr b="0" lang="en-US" sz="2600" spc="-1" strike="noStrike">
              <a:solidFill>
                <a:srgbClr val="8c438f"/>
              </a:solidFill>
              <a:latin typeface="Georgia"/>
            </a:endParaRPr>
          </a:p>
        </p:txBody>
      </p:sp>
      <p:sp>
        <p:nvSpPr>
          <p:cNvPr id="737" name=""/>
          <p:cNvSpPr txBox="1"/>
          <p:nvPr/>
        </p:nvSpPr>
        <p:spPr>
          <a:xfrm>
            <a:off x="142920" y="12855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Grimberg, Graciela Norma”, TFN, Sala “A” del 4/8/20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eorgia"/>
              </a:rPr>
              <a:t>Se declara la nulidad de la resolución, en razón que la DO modifica los fundamentos que dieron sustento al ajuste en la vista, al constituir un vicio que cobra especial relevancia en la materia, descalificando la validez intrínseca de los actos, al afectar el derecho de defensa de la actora.</a:t>
            </a:r>
            <a:endParaRPr b="0" lang="en-US" sz="3200" spc="-1" strike="noStrike">
              <a:solidFill>
                <a:srgbClr val="000000"/>
              </a:solidFill>
              <a:latin typeface="Georgia"/>
            </a:endParaRPr>
          </a:p>
        </p:txBody>
      </p:sp>
      <p:sp>
        <p:nvSpPr>
          <p:cNvPr id="738"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C7C43-8388-40AC-97E6-028CC4F89E3E}"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85840" y="571320"/>
            <a:ext cx="8534160" cy="758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Confirmación del auto de procesamiento por evasión fiscal de declaraciones juradas originales presentadas en CERO</a:t>
            </a:r>
            <a:endParaRPr b="0" lang="en-US" sz="2400" spc="-1" strike="noStrike">
              <a:solidFill>
                <a:srgbClr val="8c438f"/>
              </a:solidFill>
              <a:latin typeface="Georgia"/>
            </a:endParaRPr>
          </a:p>
        </p:txBody>
      </p:sp>
      <p:sp>
        <p:nvSpPr>
          <p:cNvPr id="617" name=""/>
          <p:cNvSpPr txBox="1"/>
          <p:nvPr/>
        </p:nvSpPr>
        <p:spPr>
          <a:xfrm>
            <a:off x="142920" y="1571400"/>
            <a:ext cx="8842320" cy="5072040"/>
          </a:xfrm>
          <a:prstGeom prst="rect">
            <a:avLst/>
          </a:prstGeom>
          <a:noFill/>
          <a:ln w="0">
            <a:noFill/>
          </a:ln>
        </p:spPr>
        <p:txBody>
          <a:bodyPr anchor="t">
            <a:normAutofit/>
          </a:bodyPr>
          <a:p>
            <a:pPr marL="179280" indent="-1792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Klusch, Isabel Marta” CNAPE, Sala “B” del 20/10/11</a:t>
            </a:r>
            <a:endParaRPr b="0" lang="en-US" sz="2000" spc="-1" strike="noStrike">
              <a:solidFill>
                <a:srgbClr val="000000"/>
              </a:solidFill>
              <a:latin typeface="Georgia"/>
            </a:endParaRPr>
          </a:p>
          <a:p>
            <a:pPr marL="179280" indent="-1792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Corresponde confirmar la resolución recurrida en cuanto dictó el auto de procesamiento, por evasión fiscal correspondiente a una DDJJ original con impuesto cero, que luego fue rectificada en virtud de una fiscalización, con planes de pago acordado por la AFIP.</a:t>
            </a:r>
            <a:endParaRPr b="0" lang="en-US" sz="2800" spc="-1" strike="noStrike">
              <a:solidFill>
                <a:srgbClr val="000000"/>
              </a:solidFill>
              <a:latin typeface="Georgia"/>
            </a:endParaRPr>
          </a:p>
        </p:txBody>
      </p:sp>
      <p:sp>
        <p:nvSpPr>
          <p:cNvPr id="618"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C3AA-BC4C-45C6-BF5B-FD38F16966A7}"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213840" y="214200"/>
            <a:ext cx="8929800" cy="10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Revocatoria de la DO por facturas apócrifas</a:t>
            </a:r>
            <a:endParaRPr b="0" lang="en-US" sz="3600" spc="-1" strike="noStrike">
              <a:solidFill>
                <a:srgbClr val="8c438f"/>
              </a:solidFill>
              <a:latin typeface="Georgia"/>
            </a:endParaRPr>
          </a:p>
        </p:txBody>
      </p:sp>
      <p:sp>
        <p:nvSpPr>
          <p:cNvPr id="740" name=""/>
          <p:cNvSpPr txBox="1"/>
          <p:nvPr/>
        </p:nvSpPr>
        <p:spPr>
          <a:xfrm>
            <a:off x="142920" y="12855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Posleman”, TFN, Sala “A” del 7/7/20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eorgia"/>
              </a:rPr>
              <a:t>Se revoca la DO basada en facturas apócrifas, por no encontrarse debidamente acreditada la real y efectiva capacidad del proveedor, habida cuenta de la falta de sustento del Fisco a su pretensión fáctica. A tales efectos, se valoró la carta documento enviada al proveedor, obteniendo la respuesta del mismo reconociendo la veracidad de las prestaciones efectuadas.</a:t>
            </a:r>
            <a:endParaRPr b="0" lang="en-US" sz="3200" spc="-1" strike="noStrike">
              <a:solidFill>
                <a:srgbClr val="000000"/>
              </a:solidFill>
              <a:latin typeface="Georgia"/>
            </a:endParaRPr>
          </a:p>
        </p:txBody>
      </p:sp>
      <p:sp>
        <p:nvSpPr>
          <p:cNvPr id="741"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56E7-DB2E-4B0B-88F0-D29AB22CD7B5}"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Georgia"/>
              </a:rPr>
              <a:t>Revocatoria de la multa por defraudación fiscal por facturas APOC</a:t>
            </a:r>
            <a:endParaRPr b="0" lang="en-US" sz="3200" spc="-1" strike="noStrike">
              <a:solidFill>
                <a:srgbClr val="8c438f"/>
              </a:solidFill>
              <a:latin typeface="Georgia"/>
            </a:endParaRPr>
          </a:p>
        </p:txBody>
      </p:sp>
      <p:sp>
        <p:nvSpPr>
          <p:cNvPr id="743" name=""/>
          <p:cNvSpPr txBox="1"/>
          <p:nvPr/>
        </p:nvSpPr>
        <p:spPr>
          <a:xfrm>
            <a:off x="142920" y="12855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Saffe, Marcelo Jorge”, TFN, Sala “C” del 29/8/20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Corresponde revocar la multa por defraudación fiscal aplicada por la AFIP, en función de la impugnación del crédito fiscal IVA por facturas emitidas por un fletero, por considerarse que no tendrá capacidad operativa y por no ser localizado, en función de las copias de consultas de facturas apócrifas en la base Apoc aportadas por el contribuyente, de las que surge que tales facturas coinciden con la autorización otorgada por la AFIP que se encuentra vigente.</a:t>
            </a:r>
            <a:endParaRPr b="0" lang="en-US" sz="2800" spc="-1" strike="noStrike">
              <a:solidFill>
                <a:srgbClr val="000000"/>
              </a:solidFill>
              <a:latin typeface="Georgia"/>
            </a:endParaRPr>
          </a:p>
        </p:txBody>
      </p:sp>
      <p:sp>
        <p:nvSpPr>
          <p:cNvPr id="744"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8AEB-EF3C-499E-B08B-E0DF2DFA31D7}"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El resultado de la venta de acciones para un residente del exterior se encuentra exento del impuesto a las ganancias</a:t>
            </a:r>
            <a:endParaRPr b="0" lang="en-US" sz="2400" spc="-1" strike="noStrike">
              <a:solidFill>
                <a:srgbClr val="8c438f"/>
              </a:solidFill>
              <a:latin typeface="Georgia"/>
            </a:endParaRPr>
          </a:p>
        </p:txBody>
      </p:sp>
      <p:sp>
        <p:nvSpPr>
          <p:cNvPr id="746" name=""/>
          <p:cNvSpPr txBox="1"/>
          <p:nvPr/>
        </p:nvSpPr>
        <p:spPr>
          <a:xfrm>
            <a:off x="142920" y="12855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Grilli, Ricardo Emilio”, TFN, Sala “D” del 26/8/20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El resultado de una venta en forma no habitual de títulos valores (acciones) por parte de una persona física, se encuentra exento del impuesto a las ganancias (Art. 20 inc w), sin que la norma haya discriminado entre residentes y no residentes. En igual sentido, los intereses de depósito a plazo fijo.</a:t>
            </a:r>
            <a:endParaRPr b="0" lang="en-US" sz="2800" spc="-1" strike="noStrike">
              <a:solidFill>
                <a:srgbClr val="000000"/>
              </a:solidFill>
              <a:latin typeface="Georgia"/>
            </a:endParaRPr>
          </a:p>
        </p:txBody>
      </p:sp>
      <p:sp>
        <p:nvSpPr>
          <p:cNvPr id="747"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ECA07-AE56-4FC3-8390-14E639129EB7}"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Georgia"/>
              </a:rPr>
              <a:t>Procedencia de la prohibición de innovar respecto de la Pcia. Bs. As. en relación a la alícuota diferencial en el impuesto de sellos</a:t>
            </a:r>
            <a:endParaRPr b="0" lang="en-US" sz="2300" spc="-1" strike="noStrike">
              <a:solidFill>
                <a:srgbClr val="8c438f"/>
              </a:solidFill>
              <a:latin typeface="Georgia"/>
            </a:endParaRPr>
          </a:p>
        </p:txBody>
      </p:sp>
      <p:sp>
        <p:nvSpPr>
          <p:cNvPr id="749" name=""/>
          <p:cNvSpPr txBox="1"/>
          <p:nvPr/>
        </p:nvSpPr>
        <p:spPr>
          <a:xfrm>
            <a:off x="142920" y="1285560"/>
            <a:ext cx="8786880" cy="5072040"/>
          </a:xfrm>
          <a:prstGeom prst="rect">
            <a:avLst/>
          </a:prstGeom>
          <a:noFill/>
          <a:ln w="0">
            <a:noFill/>
          </a:ln>
        </p:spPr>
        <p:txBody>
          <a:bodyPr anchor="t">
            <a:normAutofit fontScale="96000"/>
          </a:bodyPr>
          <a:p>
            <a:pPr marL="172080" indent="-172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Colegio de Escribanos CABA”, CSN, 14/2/12</a:t>
            </a:r>
            <a:endParaRPr b="0" lang="en-US" sz="2000" spc="-1" strike="noStrike">
              <a:solidFill>
                <a:srgbClr val="000000"/>
              </a:solidFill>
              <a:latin typeface="Georgia"/>
            </a:endParaRPr>
          </a:p>
          <a:p>
            <a:pPr marL="172080" indent="-1720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eorgia"/>
              </a:rPr>
              <a:t>Se decreta la prohibición de innovar pedida y se ordena a la Pcia. de Buenos Aires que, hasta tanto se dicte sentencia definitiva en esta causa, se abstenga de reclamar o de exigir a los notarios asociados al Colegio de Escribanos de la CABA, el pago de un alícuota diferencial en concepto de impuesto de sellos (Art. 46, inc b, ap 7, ley 14333), respecto de instrumentos sobre inmuebles ubicados en la Pcia. Bs. As., concertados fuera de ella, que resulte superior a la que tributan aquellos mismos actos concertados dentro del territorio provincial</a:t>
            </a:r>
            <a:endParaRPr b="0" lang="en-US" sz="2800" spc="-1" strike="noStrike">
              <a:solidFill>
                <a:srgbClr val="000000"/>
              </a:solidFill>
              <a:latin typeface="Georgia"/>
            </a:endParaRPr>
          </a:p>
        </p:txBody>
      </p:sp>
      <p:sp>
        <p:nvSpPr>
          <p:cNvPr id="750"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1574-8A66-490E-9ED6-30B2A8A93294}"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Georgia"/>
              </a:rPr>
              <a:t>La validez del pago en efectivo y la ley antievasión</a:t>
            </a:r>
            <a:endParaRPr b="0" lang="en-US" sz="3200" spc="-1" strike="noStrike">
              <a:solidFill>
                <a:srgbClr val="8c438f"/>
              </a:solidFill>
              <a:latin typeface="Georgia"/>
            </a:endParaRPr>
          </a:p>
        </p:txBody>
      </p:sp>
      <p:sp>
        <p:nvSpPr>
          <p:cNvPr id="752" name=""/>
          <p:cNvSpPr txBox="1"/>
          <p:nvPr/>
        </p:nvSpPr>
        <p:spPr>
          <a:xfrm>
            <a:off x="142920" y="12855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Causa: “Arraras, Eliseo Antonio”, TFN, 29/11/11</a:t>
            </a:r>
            <a:endParaRPr b="0" lang="en-US" sz="24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eorgia"/>
              </a:rPr>
              <a:t>El Art. 34 de la ley 11683 es norma posterior a la ley antievasión, siendo además una norma especial frente a la ley general, por lo que resulta válido que los contribuyentes puedan acreditar la veracidad de las operaciones para poder computar a su favor los beneficios fiscales.</a:t>
            </a:r>
            <a:endParaRPr b="0" lang="en-US" sz="3200" spc="-1" strike="noStrike">
              <a:solidFill>
                <a:srgbClr val="000000"/>
              </a:solidFill>
              <a:latin typeface="Georgia"/>
            </a:endParaRPr>
          </a:p>
        </p:txBody>
      </p:sp>
      <p:sp>
        <p:nvSpPr>
          <p:cNvPr id="753"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DCEB-93D9-4053-81EC-D1833472E64D}"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La presentación espontánea como ley penal más benigna</a:t>
            </a:r>
            <a:endParaRPr b="0" lang="en-US" sz="3600" spc="-1" strike="noStrike">
              <a:solidFill>
                <a:srgbClr val="8c438f"/>
              </a:solidFill>
              <a:latin typeface="Georgia"/>
            </a:endParaRPr>
          </a:p>
        </p:txBody>
      </p:sp>
      <p:sp>
        <p:nvSpPr>
          <p:cNvPr id="755" name=""/>
          <p:cNvSpPr txBox="1"/>
          <p:nvPr/>
        </p:nvSpPr>
        <p:spPr>
          <a:xfrm>
            <a:off x="142920" y="12855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IAI y MJL”, Juez Federal Campana del 3/2/12</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eorgia"/>
              </a:rPr>
              <a:t>La presentación espontánea del contribuyente (Art. 16 LPT) es una norma penal posterior más benigna y, por ende, es aplicable a todas las causas en trámite, por lo que el sujeto que regularizó espontáneamente su situación fiscal queda exento de toda responsabilidad penal.</a:t>
            </a:r>
            <a:endParaRPr b="0" lang="en-US" sz="3200" spc="-1" strike="noStrike">
              <a:solidFill>
                <a:srgbClr val="000000"/>
              </a:solidFill>
              <a:latin typeface="Georgia"/>
            </a:endParaRPr>
          </a:p>
        </p:txBody>
      </p:sp>
      <p:sp>
        <p:nvSpPr>
          <p:cNvPr id="756"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67C30-A877-46F2-80E8-25377F3B97EF}"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Disposición de fondos a favor de terceros y las sociedades vinculadas que integran un mismo conjunto económico</a:t>
            </a:r>
            <a:endParaRPr b="0" lang="en-US" sz="2400" spc="-1" strike="noStrike">
              <a:solidFill>
                <a:srgbClr val="8c438f"/>
              </a:solidFill>
              <a:latin typeface="Georgia"/>
            </a:endParaRPr>
          </a:p>
        </p:txBody>
      </p:sp>
      <p:sp>
        <p:nvSpPr>
          <p:cNvPr id="758" name=""/>
          <p:cNvSpPr txBox="1"/>
          <p:nvPr/>
        </p:nvSpPr>
        <p:spPr>
          <a:xfrm>
            <a:off x="142920" y="1285560"/>
            <a:ext cx="8786880" cy="5072040"/>
          </a:xfrm>
          <a:prstGeom prst="rect">
            <a:avLst/>
          </a:prstGeom>
          <a:noFill/>
          <a:ln w="0">
            <a:noFill/>
          </a:ln>
        </p:spPr>
        <p:txBody>
          <a:bodyPr anchor="t">
            <a:normAutofit fontScale="98000"/>
          </a:bodyPr>
          <a:p>
            <a:pPr marL="175680" indent="-175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Fiat Concord SA”, CSN, 6/3/12</a:t>
            </a:r>
            <a:endParaRPr b="0" lang="en-US" sz="1600" spc="-1" strike="noStrike">
              <a:solidFill>
                <a:srgbClr val="000000"/>
              </a:solidFill>
              <a:latin typeface="Georgia"/>
            </a:endParaRPr>
          </a:p>
          <a:p>
            <a:pPr marL="175680" indent="-1756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eorgia"/>
              </a:rPr>
              <a:t>El hecho de que la disposición de fondos se efectúe entre sociedades vinculadas económicamente entre sí o en relación de sujeción económica por revestir una de ellas una condición dominante respecto de otra dependiente, no impide considerar que dicha disposición se haya efectuado a favor de terceros, puesto que se trata de distintos sujetos de derecho que no son considerados individualmente como sujetos pasivos de la obligación tributaria. Ello, pues la relación de subordinación no suprime la personalidad jurídica de la sociedad dependiente.</a:t>
            </a:r>
            <a:endParaRPr b="0" lang="en-US" sz="2100" spc="-1" strike="noStrike">
              <a:solidFill>
                <a:srgbClr val="000000"/>
              </a:solidFill>
              <a:latin typeface="Georgia"/>
            </a:endParaRPr>
          </a:p>
          <a:p>
            <a:pPr marL="175680" indent="-1756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eorgia"/>
              </a:rPr>
              <a:t>Cuando el Art. 73 LIG alude a las operaciones realizadas en “interés de la empresa” no se refiere al interés del conjunto económico sino al del sujeto al que se encuentra dirigida la norma, o sea la sociedad de capital que efectuó la disposición de fondos o bienes.</a:t>
            </a:r>
            <a:endParaRPr b="0" lang="en-US" sz="2100" spc="-1" strike="noStrike">
              <a:solidFill>
                <a:srgbClr val="000000"/>
              </a:solidFill>
              <a:latin typeface="Georgia"/>
            </a:endParaRPr>
          </a:p>
          <a:p>
            <a:pPr marL="175680" indent="-17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eorgia"/>
              </a:rPr>
              <a:t>	</a:t>
            </a:r>
            <a:r>
              <a:rPr b="0" lang="es-ES_tradnl" sz="2100" spc="-1" strike="noStrike">
                <a:solidFill>
                  <a:srgbClr val="000000"/>
                </a:solidFill>
                <a:latin typeface="Georgia"/>
              </a:rPr>
              <a:t>Fallo confirmatorio CCAF, Sala V</a:t>
            </a:r>
            <a:endParaRPr b="0" lang="en-US" sz="2100" spc="-1" strike="noStrike">
              <a:solidFill>
                <a:srgbClr val="000000"/>
              </a:solidFill>
              <a:latin typeface="Georgia"/>
            </a:endParaRPr>
          </a:p>
        </p:txBody>
      </p:sp>
      <p:sp>
        <p:nvSpPr>
          <p:cNvPr id="759"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BBA9-E4CF-4F20-A648-35B9A95AF631}"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42560" y="142560"/>
            <a:ext cx="928692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000000"/>
                </a:solidFill>
                <a:latin typeface="Georgia"/>
              </a:rPr>
              <a:t>Disposición de fondos a favor de terceros por transferencias al exterior a otras empresas del grupo</a:t>
            </a:r>
            <a:endParaRPr b="0" lang="en-US" sz="2500" spc="-1" strike="noStrike">
              <a:solidFill>
                <a:srgbClr val="8c438f"/>
              </a:solidFill>
              <a:latin typeface="Georgia"/>
            </a:endParaRPr>
          </a:p>
        </p:txBody>
      </p:sp>
      <p:sp>
        <p:nvSpPr>
          <p:cNvPr id="761" name=""/>
          <p:cNvSpPr txBox="1"/>
          <p:nvPr/>
        </p:nvSpPr>
        <p:spPr>
          <a:xfrm>
            <a:off x="142920" y="1285560"/>
            <a:ext cx="8786880" cy="5072040"/>
          </a:xfrm>
          <a:prstGeom prst="rect">
            <a:avLst/>
          </a:prstGeom>
          <a:noFill/>
          <a:ln w="0">
            <a:noFill/>
          </a:ln>
        </p:spPr>
        <p:txBody>
          <a:bodyPr anchor="t">
            <a:normAutofit fontScale="95000"/>
          </a:bodyPr>
          <a:p>
            <a:pPr marL="170280" indent="-170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BJ Services SRL”, CSN, 6/3/12</a:t>
            </a:r>
            <a:endParaRPr b="0" lang="en-US" sz="1400" spc="-1" strike="noStrike">
              <a:solidFill>
                <a:srgbClr val="000000"/>
              </a:solidFill>
              <a:latin typeface="Georgia"/>
            </a:endParaRPr>
          </a:p>
          <a:p>
            <a:pPr marL="170280" indent="-170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Los fondos transferidos por la empresa al exterior para su utilización por empresas del grupo, a solicitud del accionista principal, están alcanzados por el Art. 73 de la LIG, no pudiendo ser tratados como distribución de utilidades, pues para ello resulta necesaria la decisión de la asamblea (ley 19550), recaudo que no puede tenerse por suplido por las instrucciones de un “manual elaborado” por la casa matriz.</a:t>
            </a:r>
            <a:endParaRPr b="0" lang="en-US" sz="2000" spc="-1" strike="noStrike">
              <a:solidFill>
                <a:srgbClr val="000000"/>
              </a:solidFill>
              <a:latin typeface="Georgia"/>
            </a:endParaRPr>
          </a:p>
          <a:p>
            <a:pPr marL="170280" indent="-170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No son atendibles las argumentaciones del apelante relativas a que, por aplicación del principio de la realidad económica, la disposición de fondos debe ser considerada como una distribución de utilidades, al no haberse cumplido los recaudos exigidos por la ley 19550.</a:t>
            </a:r>
            <a:endParaRPr b="0" lang="en-US" sz="2000" spc="-1" strike="noStrike">
              <a:solidFill>
                <a:srgbClr val="000000"/>
              </a:solidFill>
              <a:latin typeface="Georgia"/>
            </a:endParaRPr>
          </a:p>
          <a:p>
            <a:pPr marL="170280" indent="-170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No resulta aplicable al caso el Art. 155 de la LIG en lugar del Art. 73, pues se trata de fondos que reconocían su origen en las utilidades obtenidas por la actora en el país, cuya disposición se efectuó en éste, aún cuando en forma inmediata hayan sido transferidos a una cuenta del exterior.</a:t>
            </a:r>
            <a:endParaRPr b="0" lang="en-US" sz="2000" spc="-1" strike="noStrike">
              <a:solidFill>
                <a:srgbClr val="000000"/>
              </a:solidFill>
              <a:latin typeface="Georgia"/>
            </a:endParaRPr>
          </a:p>
          <a:p>
            <a:pPr marL="170280" indent="-17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Georgia"/>
              </a:rPr>
              <a:t>	</a:t>
            </a:r>
            <a:r>
              <a:rPr b="0" lang="es-ES_tradnl" sz="2000" spc="-1" strike="noStrike">
                <a:solidFill>
                  <a:srgbClr val="000000"/>
                </a:solidFill>
                <a:latin typeface="Georgia"/>
              </a:rPr>
              <a:t>Fallo confirmatorio TFN y CCAF, Sala V.</a:t>
            </a:r>
            <a:endParaRPr b="0" lang="en-US" sz="2000" spc="-1" strike="noStrike">
              <a:solidFill>
                <a:srgbClr val="000000"/>
              </a:solidFill>
              <a:latin typeface="Georgia"/>
            </a:endParaRPr>
          </a:p>
        </p:txBody>
      </p:sp>
      <p:sp>
        <p:nvSpPr>
          <p:cNvPr id="762"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94AB9-7E4D-41D7-9FDF-14B5C21D12CC}"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Argumentos no idóneos para la procedencia del ajuste por inflación</a:t>
            </a:r>
            <a:endParaRPr b="0" lang="en-US" sz="2400" spc="-1" strike="noStrike">
              <a:solidFill>
                <a:srgbClr val="8c438f"/>
              </a:solidFill>
              <a:latin typeface="Georgia"/>
            </a:endParaRPr>
          </a:p>
        </p:txBody>
      </p:sp>
      <p:sp>
        <p:nvSpPr>
          <p:cNvPr id="764" name=""/>
          <p:cNvSpPr txBox="1"/>
          <p:nvPr/>
        </p:nvSpPr>
        <p:spPr>
          <a:xfrm>
            <a:off x="142920" y="12855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Alfajores Jorgito SA”, CSN, 28/2/12</a:t>
            </a:r>
            <a:endParaRPr b="0" lang="en-US" sz="16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Georgia"/>
              </a:rPr>
              <a:t>A efectos de demostrar la concurrencia del mencionado recaudo, la recurrente afirmó que “la importancia económica del  litigio” está "dada en el  caso por la diferencia entre el pago del impuesto a las ganancias con y sin la aplicación del mecanismo de ajuste por inflación" correspondiente al ejercicio fiscal 2002.</a:t>
            </a:r>
            <a:endParaRPr b="0" lang="en-US" sz="23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Georgia"/>
              </a:rPr>
              <a:t>Tales argumentos no son idóneos para demostrar la concurrencia del mencionado requisito tal como ha sido expresado en los considerandos 4º y 5º de la causa R.719.XLV "Ranko S.A. c/ E.N. - ley 24.073 dto. 214/02  s/proceso de conocimiento", sentencia del 27 de septiembre de 2011, a cuyos fundamentos corresponde remitirse, en lo pertinente, por razones de brevedad.</a:t>
            </a:r>
            <a:endParaRPr b="0" lang="en-US" sz="2300" spc="-1" strike="noStrike">
              <a:solidFill>
                <a:srgbClr val="000000"/>
              </a:solidFill>
              <a:latin typeface="Georgia"/>
            </a:endParaRPr>
          </a:p>
        </p:txBody>
      </p:sp>
      <p:sp>
        <p:nvSpPr>
          <p:cNvPr id="765"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74B36-1554-4FB9-BDFD-B5154363446C}"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Procedencia del ajuste por inflación</a:t>
            </a:r>
            <a:endParaRPr b="0" lang="en-US" sz="3600" spc="-1" strike="noStrike">
              <a:solidFill>
                <a:srgbClr val="8c438f"/>
              </a:solidFill>
              <a:latin typeface="Georgia"/>
            </a:endParaRPr>
          </a:p>
        </p:txBody>
      </p:sp>
      <p:sp>
        <p:nvSpPr>
          <p:cNvPr id="767" name=""/>
          <p:cNvSpPr txBox="1"/>
          <p:nvPr/>
        </p:nvSpPr>
        <p:spPr>
          <a:xfrm>
            <a:off x="142920" y="1285560"/>
            <a:ext cx="8786880" cy="5072040"/>
          </a:xfrm>
          <a:prstGeom prst="rect">
            <a:avLst/>
          </a:prstGeom>
          <a:noFill/>
          <a:ln w="0">
            <a:noFill/>
          </a:ln>
        </p:spPr>
        <p:txBody>
          <a:bodyPr anchor="t">
            <a:normAutofit fontScale="95000"/>
          </a:bodyPr>
          <a:p>
            <a:pPr marL="170280" indent="-170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Causa: “Swaco de Argentina SA”, CSN, 14/2/12</a:t>
            </a:r>
            <a:endParaRPr b="0" lang="en-US" sz="1200" spc="-1" strike="noStrike">
              <a:solidFill>
                <a:srgbClr val="000000"/>
              </a:solidFill>
              <a:latin typeface="Georgia"/>
            </a:endParaRPr>
          </a:p>
          <a:p>
            <a:pPr marL="170280" indent="-170280">
              <a:spcBef>
                <a:spcPts val="4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Georgia"/>
              </a:rPr>
              <a:t>Las cuestiones planteadas en los presentes autos resultan sustancialmente análogas a</a:t>
            </a:r>
            <a:r>
              <a:rPr b="1" lang="es-ES_tradnl" sz="1600" spc="-1" strike="noStrike">
                <a:solidFill>
                  <a:srgbClr val="000000"/>
                </a:solidFill>
                <a:latin typeface="Georgia"/>
              </a:rPr>
              <a:t> </a:t>
            </a:r>
            <a:r>
              <a:rPr b="0" lang="es-ES_tradnl" sz="1600" spc="-1" strike="noStrike">
                <a:solidFill>
                  <a:srgbClr val="000000"/>
                </a:solidFill>
                <a:latin typeface="Georgia"/>
              </a:rPr>
              <a:t>las consideradas y resueltas por el Tribunal en el precedente "Candy"   (Fallos: 332:1571).</a:t>
            </a:r>
            <a:endParaRPr b="0" lang="en-US" sz="1600" spc="-1" strike="noStrike">
              <a:solidFill>
                <a:srgbClr val="000000"/>
              </a:solidFill>
              <a:latin typeface="Georgia"/>
            </a:endParaRPr>
          </a:p>
          <a:p>
            <a:pPr marL="170280" indent="-170280">
              <a:spcBef>
                <a:spcPts val="4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Los instrumentos acompañados por la actora y, en especial, las  conclusiones  del  peritaje contable llevan a tener por demostrada la existencia de un supuesto de confiscatoriedad según el criterio establecido en los considerandos 7º y siguientes del referido precedente.</a:t>
            </a:r>
            <a:endParaRPr b="0" lang="en-US" sz="1600" spc="-1" strike="noStrike">
              <a:solidFill>
                <a:srgbClr val="000000"/>
              </a:solidFill>
              <a:latin typeface="Georgia"/>
            </a:endParaRPr>
          </a:p>
          <a:p>
            <a:pPr marL="170280" indent="-170280">
              <a:spcBef>
                <a:spcPts val="4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l respecto resultan inatendibles los agravios de la AFIP-DGI en torno a que la situación ventilada en autos no fue analizada "dentro de un procedimiento fiscalizador previsto en la ley 11.683" sino que la cámara al juzgar "se limitó a lo expresado por la actora y [a] la escasa probanza arrimada a las actuaciones" (conf. fs. 288 vta. in fine), toda vez que el organismo recaudador tuvo la oportunidad de ejercer las amplias potestades de verificación y fiscalización que le confiere la ley 11.683 en el trámite del reclamo administrativo de repetición formulado por la actora el 25 de noviembre de 2003, cuya falta de resolución en tiempo dio lugar a que aquélla ocurriera ante el Tribunal Fiscal -el 5 de julio de 2004-mediante el pertinente recurso por retardo, previsto en el art. 81 de la ley 11.683.</a:t>
            </a:r>
            <a:endParaRPr b="0" lang="en-US" sz="1600" spc="-1" strike="noStrike">
              <a:solidFill>
                <a:srgbClr val="000000"/>
              </a:solidFill>
              <a:latin typeface="Georgia"/>
            </a:endParaRPr>
          </a:p>
          <a:p>
            <a:pPr marL="170280" indent="-170280">
              <a:spcBef>
                <a:spcPts val="400"/>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Por lo demás, los agravios de la apelante vinculados con la ineficacia que atribuye a las pruebas reunidas en  autos   constituyen meras  afirmaciones  genéricas desprovistas de peso para desvirtuar el resultado confiscatorio que resultaría de no aplicar el ajuste por inflación según surge de aquéllas, y que el a quo tuvo en cuenta al resolver.</a:t>
            </a:r>
            <a:endParaRPr b="0" lang="en-US" sz="1600" spc="-1" strike="noStrike">
              <a:solidFill>
                <a:srgbClr val="000000"/>
              </a:solidFill>
              <a:latin typeface="Georgia"/>
            </a:endParaRPr>
          </a:p>
          <a:p>
            <a:pPr marL="170280" indent="-170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0" lang="es-AR" sz="1600" spc="-1" strike="noStrike">
                <a:solidFill>
                  <a:srgbClr val="000000"/>
                </a:solidFill>
                <a:latin typeface="Georgia"/>
              </a:rPr>
              <a:t>Fallo confirmatorio CCAF, Sala II (Revocatorio TFN)</a:t>
            </a:r>
            <a:endParaRPr b="0" lang="en-US" sz="1600" spc="-1" strike="noStrike">
              <a:solidFill>
                <a:srgbClr val="000000"/>
              </a:solidFill>
              <a:latin typeface="Georgia"/>
            </a:endParaRPr>
          </a:p>
        </p:txBody>
      </p:sp>
      <p:sp>
        <p:nvSpPr>
          <p:cNvPr id="768"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42D1-86B0-4DF5-A47F-E75A968D8CEF}"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13840" y="285480"/>
            <a:ext cx="8534520" cy="973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000000"/>
                </a:solidFill>
                <a:latin typeface="Georgia"/>
              </a:rPr>
              <a:t>Revocatoria del procesamiento de los imputados por omisión depósito de aportes retenidos a empleados regularizados a poco tiempo de ocurridas</a:t>
            </a:r>
            <a:endParaRPr b="0" lang="en-US" sz="2300" spc="-1" strike="noStrike">
              <a:solidFill>
                <a:srgbClr val="8c438f"/>
              </a:solidFill>
              <a:latin typeface="Georgia"/>
            </a:endParaRPr>
          </a:p>
        </p:txBody>
      </p:sp>
      <p:sp>
        <p:nvSpPr>
          <p:cNvPr id="620" name=""/>
          <p:cNvSpPr txBox="1"/>
          <p:nvPr/>
        </p:nvSpPr>
        <p:spPr>
          <a:xfrm>
            <a:off x="142920" y="1499760"/>
            <a:ext cx="8842320" cy="5072040"/>
          </a:xfrm>
          <a:prstGeom prst="rect">
            <a:avLst/>
          </a:prstGeom>
          <a:noFill/>
          <a:ln w="0">
            <a:noFill/>
          </a:ln>
        </p:spPr>
        <p:txBody>
          <a:bodyPr anchor="t">
            <a:normAutofit/>
          </a:bodyPr>
          <a:p>
            <a:pPr marL="179280" indent="-1792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eorgia"/>
              </a:rPr>
              <a:t>Causa: “Virrey Olaguer y Feliu 2595 SRL” CNAPE, Sala “A” del 10/11/11</a:t>
            </a:r>
            <a:endParaRPr b="0" lang="en-US" sz="1800" spc="-1" strike="noStrike">
              <a:solidFill>
                <a:srgbClr val="000000"/>
              </a:solidFill>
              <a:latin typeface="Georgia"/>
            </a:endParaRPr>
          </a:p>
          <a:p>
            <a:pPr marL="179280" indent="-1792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rPr>
              <a:t>Corresponde revocar lo resuelto en la instancia anterior, en cuanto al procesamiento de los imputados por omisión de depósito de los aportes retenidos a los empleados (5 períodos mensuales consecutivos), al encontrarse comprobado el propósito de regularizar las omisiones al poco tiempo de ocurridas.</a:t>
            </a:r>
            <a:endParaRPr b="0" lang="en-US" sz="2400" spc="-1" strike="noStrike">
              <a:solidFill>
                <a:srgbClr val="000000"/>
              </a:solidFill>
              <a:latin typeface="Georgia"/>
            </a:endParaRPr>
          </a:p>
          <a:p>
            <a:pPr marL="179280" indent="-1792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rPr>
              <a:t>En esas condiciones y no existiendo otros elementos de cargo, no hay elementos de convicción suficientes que justifiquen la orden de procesamiento por lo que lo resuelto no se ajusta a lo establecido en el art. 306 del Código Procesal Penal de la Nación.</a:t>
            </a:r>
            <a:endParaRPr b="0" lang="en-US" sz="2400" spc="-1" strike="noStrike">
              <a:solidFill>
                <a:srgbClr val="000000"/>
              </a:solidFill>
              <a:latin typeface="Georgia"/>
            </a:endParaRPr>
          </a:p>
        </p:txBody>
      </p:sp>
      <p:sp>
        <p:nvSpPr>
          <p:cNvPr id="621"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CBC8-C7D3-4A70-8EE6-0FA6AD136278}"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El sistema organizado de pagos en el IDyCB (I)</a:t>
            </a:r>
            <a:endParaRPr b="0" lang="en-US" sz="3600" spc="-1" strike="noStrike">
              <a:solidFill>
                <a:srgbClr val="8c438f"/>
              </a:solidFill>
              <a:latin typeface="Georgia"/>
            </a:endParaRPr>
          </a:p>
        </p:txBody>
      </p:sp>
      <p:sp>
        <p:nvSpPr>
          <p:cNvPr id="770" name=""/>
          <p:cNvSpPr txBox="1"/>
          <p:nvPr/>
        </p:nvSpPr>
        <p:spPr>
          <a:xfrm>
            <a:off x="142920" y="1285560"/>
            <a:ext cx="8786880" cy="5072040"/>
          </a:xfrm>
          <a:prstGeom prst="rect">
            <a:avLst/>
          </a:prstGeom>
          <a:noFill/>
          <a:ln w="0">
            <a:noFill/>
          </a:ln>
        </p:spPr>
        <p:txBody>
          <a:bodyPr anchor="t">
            <a:normAutofit fontScale="96000"/>
          </a:bodyPr>
          <a:p>
            <a:pPr marL="172080" indent="-172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 ”, CCAF, Sala V del 22/11/11</a:t>
            </a:r>
            <a:endParaRPr b="0" lang="en-US" sz="1400" spc="-1" strike="noStrike">
              <a:solidFill>
                <a:srgbClr val="000000"/>
              </a:solidFill>
              <a:latin typeface="Georgia"/>
            </a:endParaRPr>
          </a:p>
          <a:p>
            <a:pPr marL="172080" indent="-1720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l Tribunal Fiscal de la Nación resolvió revocar, con costas, la Resolución emanada de la Jefatura de la División Jurídica, a cargo de la División Recaudación y Recursos de la Dirección Regional Tucumán de la Dirección General Impositiva de la Administración Federal de Ingresos Públicos. Dicha resolución administrativa había determinado de oficio con carácter parcial el impuesto sobre los débitos y créditos bancarios que la actora debió ingresar por el período fiscal 2006. Asimismo, había aplicado una multa equivalente al 70 % del impuesto dejado de tributar, con base en el artículo 45 de la Ley N° 11.683.</a:t>
            </a:r>
            <a:endParaRPr b="0" lang="en-US" sz="1400" spc="-1" strike="noStrike">
              <a:solidFill>
                <a:srgbClr val="000000"/>
              </a:solidFill>
              <a:latin typeface="Georgia"/>
            </a:endParaRPr>
          </a:p>
          <a:p>
            <a:pPr marL="172080" indent="-1720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Para decidir la revocación de dicho acto, el tribunal a quo —en primer lugar— relató que conforme surge de las actuaciones administrativas la contribuyente de autos es una sociedad que por el tipo de actividad que realiza (venta al por menor de combustibles para vehículos automotores y motocicletas) tiene un único o pocos proveedores y, se presume además, que por lo general sus clientes le pagan en efectivo. Asimismo, detalló que surge que la entidad efectúa los pagos a sus proveedores mediante depósitos en efectivo en las cuentas bancarias de los mismos.</a:t>
            </a:r>
            <a:endParaRPr b="0" lang="en-US" sz="1400" spc="-1" strike="noStrike">
              <a:solidFill>
                <a:srgbClr val="000000"/>
              </a:solidFill>
              <a:latin typeface="Georgia"/>
            </a:endParaRPr>
          </a:p>
          <a:p>
            <a:pPr marL="172080" indent="-1720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eorgia"/>
              </a:rPr>
              <a:t>Señaló que en casos como el de autos, en el que se trata no sólo de la existencia de pagos a proveedores mediante depósito en efectivo en sus cuentas bancarias para cancelar operaciones, sino que también se advirtieron cancelaciones con cheques propios y de terceros —lo cual evidenciaba que el pago en efectivo era circunstancial—, no podía considerarse a los eventuales pagos efectuados bajo esas condiciones como un "sistema organizado" que tuviera la finalidad de reemplazar el uso de las cuentas previstas en el artículo I</a:t>
            </a:r>
            <a:r>
              <a:rPr b="0" lang="es-ES_tradnl" sz="1400" spc="-1" strike="noStrike" baseline="30000">
                <a:solidFill>
                  <a:srgbClr val="000000"/>
                </a:solidFill>
                <a:latin typeface="Georgia"/>
              </a:rPr>
              <a:t>o</a:t>
            </a:r>
            <a:r>
              <a:rPr b="0" lang="es-ES_tradnl" sz="1400" spc="-1" strike="noStrike">
                <a:solidFill>
                  <a:srgbClr val="000000"/>
                </a:solidFill>
                <a:latin typeface="Georgia"/>
              </a:rPr>
              <a:t>, inciso a) de la Ley N° 25.413. En este mismo orden de ideas, alegó que la circunstancia de que el contribuyente obtenía cobros en efectivo por la operaciones de venta que realizaba a consumidores finales, podría generar la necesidad de la recurrente de su utilización o disposición, no existiendo norma alguna que obligue a su depósito en una cuenta bancaria propia.</a:t>
            </a:r>
            <a:r>
              <a:rPr b="0" lang="es-AR" sz="1400" spc="-1" strike="noStrike">
                <a:solidFill>
                  <a:srgbClr val="000000"/>
                </a:solidFill>
                <a:latin typeface="Georgia"/>
              </a:rPr>
              <a:t> </a:t>
            </a:r>
            <a:endParaRPr b="0" lang="en-US" sz="1400" spc="-1" strike="noStrike">
              <a:solidFill>
                <a:srgbClr val="000000"/>
              </a:solidFill>
              <a:latin typeface="Georgia"/>
            </a:endParaRPr>
          </a:p>
        </p:txBody>
      </p:sp>
      <p:sp>
        <p:nvSpPr>
          <p:cNvPr id="771"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FFBA-ECE4-4145-9F3A-42106A3DC73D}"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Georgia"/>
              </a:rPr>
              <a:t>El sistema organizado de pagos en el IDyCB (II)</a:t>
            </a:r>
            <a:endParaRPr b="0" lang="en-US" sz="3600" spc="-1" strike="noStrike">
              <a:solidFill>
                <a:srgbClr val="8c438f"/>
              </a:solidFill>
              <a:latin typeface="Georgia"/>
            </a:endParaRPr>
          </a:p>
        </p:txBody>
      </p:sp>
      <p:sp>
        <p:nvSpPr>
          <p:cNvPr id="773" name=""/>
          <p:cNvSpPr txBox="1"/>
          <p:nvPr/>
        </p:nvSpPr>
        <p:spPr>
          <a:xfrm>
            <a:off x="142920" y="1285560"/>
            <a:ext cx="8786880" cy="5072040"/>
          </a:xfrm>
          <a:prstGeom prst="rect">
            <a:avLst/>
          </a:prstGeom>
          <a:noFill/>
          <a:ln w="0">
            <a:noFill/>
          </a:ln>
        </p:spPr>
        <p:txBody>
          <a:bodyPr anchor="t">
            <a:normAutofit fontScale="98000"/>
          </a:bodyPr>
          <a:p>
            <a:pPr marL="175680" indent="-1756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Resulta desacertado el criterio del tribunal a quo al definir el concepto de “sistema organizado de pagos" remitiéndose exclusivamente a definiciones del Diccionario de la Real Academia Española para cada uno de los términos que componen la expresión (esto es, "sistema", "organizado" y "pagos"), ya que la interpretación del hecho imponible debe practicarse teniendo en cuenta el contexto general de las leyes y los fines que las informan, ya que la primera regla hermenéutica es ^lar pleno efecto a la intención del legislador (Fallos 329:3546; 327:5649). </a:t>
            </a:r>
            <a:endParaRPr b="0" lang="en-US" sz="1400" spc="-1" strike="noStrike">
              <a:solidFill>
                <a:srgbClr val="000000"/>
              </a:solidFill>
              <a:latin typeface="Georgia"/>
            </a:endParaRPr>
          </a:p>
          <a:p>
            <a:pPr marL="175680" indent="-1756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n el caso de autos se verificó que la actora cancelaba sus obligaciones con su único proveedor con cheques de terceros endosados por la empresa, con cheques propios y con pagos en efectivo. En este punto, es menester observar que el hecho de que se empleen medios diversos de pago (a veces en efectivo y otras, con cheques de diferente origen) no impide afirmar que los pagos se realizan mediante un "sistema organizado" tendiente a cancelar obligaciones que son propias del giro de la empresa. Ello es así, cualquiera fuera el medio de pago empleado. Por otra parte, del detalle de pagos realizados por la firma actora se encuentra acreditado que los depósitos en efectivo representan algo más del 30% del total de los pagos efectuados durante el año 2006.</a:t>
            </a:r>
            <a:endParaRPr b="0" lang="en-US" sz="1400" spc="-1" strike="noStrike">
              <a:solidFill>
                <a:srgbClr val="000000"/>
              </a:solidFill>
              <a:latin typeface="Georgia"/>
            </a:endParaRPr>
          </a:p>
          <a:p>
            <a:pPr marL="175680" indent="-1756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s desacertada la conclusión del Tribunal Fiscal en cuanto sostuvo en su pronunciamiento que los depósitos en efectivo que realizaba la empresa eran "circunstanciales". Por lo tanto, este Tribunal considera que la conducta de la contribuyente (en tanto no utiliza sus propias cuentas bancarias para cancelar una porción superior a la tercera parte de sus deudas con su proveedor y considerando la habitualidad de dichas operaciones en efectivo) debe ser interpretada a la luz de la finalidad del legislador. En otras palabras, no debe interpretarse en forma aislada la expresión contenida en una norma reglamentaria ("sistema organizado de pagos"), sino en conformidad con la voluntad del legislador, que consistía en alcanzar, bajo ciertas condiciones, a las operaciones en efectivo, como objeto de tributación.</a:t>
            </a:r>
            <a:endParaRPr b="0" lang="en-US" sz="1400" spc="-1" strike="noStrike">
              <a:solidFill>
                <a:srgbClr val="000000"/>
              </a:solidFill>
              <a:latin typeface="Georgia"/>
            </a:endParaRPr>
          </a:p>
        </p:txBody>
      </p:sp>
      <p:sp>
        <p:nvSpPr>
          <p:cNvPr id="774"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1480-20F6-4A55-BE94-26C0F8B73296}"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Georgia"/>
              </a:rPr>
              <a:t>Revocatoria de la medida cautelar contra la AFIP en la suspensión en el registro fiscal de operadores</a:t>
            </a:r>
            <a:endParaRPr b="0" lang="en-US" sz="2600" spc="-1" strike="noStrike">
              <a:solidFill>
                <a:srgbClr val="8c438f"/>
              </a:solidFill>
              <a:latin typeface="Georgia"/>
            </a:endParaRPr>
          </a:p>
        </p:txBody>
      </p:sp>
      <p:sp>
        <p:nvSpPr>
          <p:cNvPr id="776" name=""/>
          <p:cNvSpPr txBox="1"/>
          <p:nvPr/>
        </p:nvSpPr>
        <p:spPr>
          <a:xfrm>
            <a:off x="142920" y="12855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Oleaginosa Moreno Hnos SA”, CCAF, Sala II del 22/11/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Se hace lugar al recurso de apelación interpuesto por el Fisco y se revoca la resolución del juez de primera instancia, que admitió la medida cautelar, ordenando a la AFIP que se la mantenga en el Registro Fiscal de Operadores en la Compra Venta de Granos y Legumbres Secas.</a:t>
            </a:r>
            <a:endParaRPr b="0" lang="en-US" sz="2800" spc="-1" strike="noStrike">
              <a:solidFill>
                <a:srgbClr val="000000"/>
              </a:solidFill>
              <a:latin typeface="Georgia"/>
            </a:endParaRPr>
          </a:p>
        </p:txBody>
      </p:sp>
      <p:sp>
        <p:nvSpPr>
          <p:cNvPr id="777"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9188-C5FE-4748-9255-0B7B373FFA67}"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21384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Georgia"/>
              </a:rPr>
              <a:t>La determinación de oficio a una sociedad civil y sus efectos procedimentales</a:t>
            </a:r>
            <a:endParaRPr b="0" lang="en-US" sz="2600" spc="-1" strike="noStrike">
              <a:solidFill>
                <a:srgbClr val="8c438f"/>
              </a:solidFill>
              <a:latin typeface="Georgia"/>
            </a:endParaRPr>
          </a:p>
        </p:txBody>
      </p:sp>
      <p:sp>
        <p:nvSpPr>
          <p:cNvPr id="779" name=""/>
          <p:cNvSpPr txBox="1"/>
          <p:nvPr/>
        </p:nvSpPr>
        <p:spPr>
          <a:xfrm>
            <a:off x="142920" y="1285560"/>
            <a:ext cx="8786880" cy="5072040"/>
          </a:xfrm>
          <a:prstGeom prst="rect">
            <a:avLst/>
          </a:prstGeom>
          <a:noFill/>
          <a:ln w="0">
            <a:noFill/>
          </a:ln>
        </p:spPr>
        <p:txBody>
          <a:bodyPr anchor="t">
            <a:normAutofit fontScale="97000"/>
          </a:bodyPr>
          <a:p>
            <a:pPr marL="173880" indent="-173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Georgia"/>
              </a:rPr>
              <a:t>Causa: Dictamen Procurador General de la Nación (Esteban Righi) en la causa “Pistrelli, Diaz y Asociados” del 28/12/11</a:t>
            </a:r>
            <a:endParaRPr b="0" lang="en-US" sz="1400" spc="-1" strike="noStrike">
              <a:solidFill>
                <a:srgbClr val="000000"/>
              </a:solidFill>
              <a:latin typeface="Georgia"/>
            </a:endParaRPr>
          </a:p>
          <a:p>
            <a:pPr marL="173880" indent="-1738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Ante la DO de la AFIP, la contribuyente recurrió en los términos del Art. 74 del Dto. 1397/79, lo que dio lugar al dictado de la resolución administrativa, agotándose así la vía recursiva y, ante ello, la contribuyente inició la demanda contenciosa, en los términos del Art. 23 de la ley 19549.</a:t>
            </a:r>
            <a:endParaRPr b="0" lang="en-US" sz="1700" spc="-1" strike="noStrike">
              <a:solidFill>
                <a:srgbClr val="000000"/>
              </a:solidFill>
              <a:latin typeface="Georgia"/>
            </a:endParaRPr>
          </a:p>
          <a:p>
            <a:pPr marL="173880" indent="-173880">
              <a:spcBef>
                <a:spcPts val="42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eorgia"/>
              </a:rPr>
              <a:t>Al tratarse la citada resolución de una determinación de oficio, su revisión debía instarse por alguna de las vías previstas por el Art. 76 de la ley de rito fiscal, habiendo optado PDA por impugnar el acto por la vía administrativa -en vez de recurrir </a:t>
            </a:r>
            <a:r>
              <a:rPr b="0" lang="es-ES_tradnl" sz="1700" spc="-1" strike="noStrike">
                <a:solidFill>
                  <a:srgbClr val="000000"/>
                </a:solidFill>
                <a:latin typeface="Georgia"/>
              </a:rPr>
              <a:t>al Tribunal Fiscal de la Nación-. Así las cosas, más allá de las consideraciones respecto de la vía recursiva formuladas por la actora en su recurso, y de las realizadas por el Fisco Nacional en su resolución, tengo para mi que la revisión transitó el mecanismo previsto en el inc. a) de dicho Art. 76 de la ley 11.683.</a:t>
            </a:r>
            <a:endParaRPr b="0" lang="en-US" sz="1700" spc="-1" strike="noStrike">
              <a:solidFill>
                <a:srgbClr val="000000"/>
              </a:solidFill>
              <a:latin typeface="Georgia"/>
            </a:endParaRPr>
          </a:p>
          <a:p>
            <a:pPr marL="173880" indent="-173880">
              <a:spcBef>
                <a:spcPts val="425"/>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Georgia"/>
              </a:rPr>
              <a:t>Así las cosas, y a la luz de la doctrina de V.E. sentada en la causa de Fallos: 333:161, el acto que pone fin a dicha vía recursiva respecto de una determinación de oficio no es susceptible de ser impugnado mediante demanda contenciosa, ya que la suerte del tributo en cuestión sólo puede ser cuestionada ante la justicia por medio de la acción de repetición de los Arts. 81 y cc. de la citada ley de forma tributaria.</a:t>
            </a:r>
            <a:endParaRPr b="0" lang="en-US" sz="1700" spc="-1" strike="noStrike">
              <a:solidFill>
                <a:srgbClr val="000000"/>
              </a:solidFill>
              <a:latin typeface="Georgia"/>
            </a:endParaRPr>
          </a:p>
          <a:p>
            <a:pPr marL="173880" indent="-1738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Georgia"/>
            </a:endParaRPr>
          </a:p>
        </p:txBody>
      </p:sp>
      <p:sp>
        <p:nvSpPr>
          <p:cNvPr id="780"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FA4E-786E-453F-A6AD-28B2A9EB2896}"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4256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Georgia"/>
              </a:rPr>
              <a:t>Gravabilidad en el IVA de la prestación de servicios de hospedaje y traslado facturados a PAMI</a:t>
            </a:r>
            <a:endParaRPr b="0" lang="en-US" sz="2600" spc="-1" strike="noStrike">
              <a:solidFill>
                <a:srgbClr val="8c438f"/>
              </a:solidFill>
              <a:latin typeface="Georgia"/>
            </a:endParaRPr>
          </a:p>
        </p:txBody>
      </p:sp>
      <p:sp>
        <p:nvSpPr>
          <p:cNvPr id="782" name=""/>
          <p:cNvSpPr txBox="1"/>
          <p:nvPr/>
        </p:nvSpPr>
        <p:spPr>
          <a:xfrm>
            <a:off x="142920" y="1285560"/>
            <a:ext cx="8786880" cy="5072040"/>
          </a:xfrm>
          <a:prstGeom prst="rect">
            <a:avLst/>
          </a:prstGeom>
          <a:noFill/>
          <a:ln w="0">
            <a:noFill/>
          </a:ln>
        </p:spPr>
        <p:txBody>
          <a:bodyPr anchor="t">
            <a:normAutofit fontScale="97000"/>
          </a:bodyPr>
          <a:p>
            <a:pPr marL="173880" indent="-173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Mandar SA”, TFN, Sala “A” del 19/10/2011</a:t>
            </a:r>
            <a:endParaRPr b="0" lang="en-US" sz="1600" spc="-1" strike="noStrike">
              <a:solidFill>
                <a:srgbClr val="000000"/>
              </a:solidFill>
              <a:latin typeface="Georgia"/>
            </a:endParaRPr>
          </a:p>
          <a:p>
            <a:pPr marL="173880" indent="-1738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Se encuentran gravados en el IVA, los servicios de hospedaje y traslado efectuados para los beneficiarios del ISSJyP (PAMI), residentes en el interior del país, abonados por PAMI, para ser atendidos en centros asistenciales de la CABA, al no tratarse de la prestación de un servicio médico o paramédico, sino de un servicio de traslado y hospedaje (Art. 3º, inc e, ap 21).</a:t>
            </a:r>
            <a:endParaRPr b="0" lang="en-US" sz="2000" spc="-1" strike="noStrike">
              <a:solidFill>
                <a:srgbClr val="000000"/>
              </a:solidFill>
              <a:latin typeface="Georgia"/>
            </a:endParaRPr>
          </a:p>
          <a:p>
            <a:pPr marL="173880" indent="-1738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Ello, pues la actividad realizada por el contribuyente no tiene por objeto la realización de prestaciones directas al paciente afectado, no cumpliéndose la premisa legal de tratarse de labores de asistencia sanitaria que se presten con la finalidad de atender al paciente en procura de curación y restablecimiento.</a:t>
            </a:r>
            <a:endParaRPr b="0" lang="en-US" sz="2000" spc="-1" strike="noStrike">
              <a:solidFill>
                <a:srgbClr val="000000"/>
              </a:solidFill>
              <a:latin typeface="Georgia"/>
            </a:endParaRPr>
          </a:p>
          <a:p>
            <a:pPr marL="173880" indent="-1738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eorgia"/>
              </a:rPr>
              <a:t>Por otra parte, la norma legal que exime del gravamen a los servicios de transporte de heridos y enfermos, requieren de la utilización de ambulancias o vehículos especiales, mientras que en el caso, se trataba de automóviles particulares mediante la contratación de terceros.</a:t>
            </a:r>
            <a:endParaRPr b="0" lang="en-US" sz="2000" spc="-1" strike="noStrike">
              <a:solidFill>
                <a:srgbClr val="000000"/>
              </a:solidFill>
              <a:latin typeface="Georgia"/>
            </a:endParaRPr>
          </a:p>
        </p:txBody>
      </p:sp>
      <p:sp>
        <p:nvSpPr>
          <p:cNvPr id="783"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8C2D-39D7-46C1-9D16-E2C827097F56}"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4256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Georgia"/>
              </a:rPr>
              <a:t>Procedencia de la exención impositiva de una cámara empresarial</a:t>
            </a:r>
            <a:endParaRPr b="0" lang="en-US" sz="2600" spc="-1" strike="noStrike">
              <a:solidFill>
                <a:srgbClr val="8c438f"/>
              </a:solidFill>
              <a:latin typeface="Georgia"/>
            </a:endParaRPr>
          </a:p>
        </p:txBody>
      </p:sp>
      <p:sp>
        <p:nvSpPr>
          <p:cNvPr id="785" name=""/>
          <p:cNvSpPr txBox="1"/>
          <p:nvPr/>
        </p:nvSpPr>
        <p:spPr>
          <a:xfrm>
            <a:off x="142920" y="12855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eorgia"/>
              </a:rPr>
              <a:t>Causa: “Cámara de Comercio e Industria de La Plata”, TFN, Sala “A” del 22/11/2011</a:t>
            </a:r>
            <a:endParaRPr b="0" lang="en-US" sz="16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Se revoca la resolución apelada, en cuanto determinó de oficio la situación fiscal de la contribuyente en el IVA, en cuanto había considerado gravados los ingresos obtenidos por “comisiones”, correspondientes al servicio prestado como agente de cobranza de “Bapro Medios de Pago SA”, efectuando la aceptación, validación y procesamiento del pago de servicios.</a:t>
            </a:r>
            <a:endParaRPr b="0" lang="en-US" sz="18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En la especie, se han cumplido los tres requisitos para la procedencia del beneficio exentivo (Art. 7º, inc h, pto 6), al encontrarse sus servicios entre los gravados (Art. 3º, inc e), estan relacionados en forma directa con los fines específicos de dicho ente y hallarse éste último comprendido en alguno de los incisos f, g, ó m) del Art. 20 de la LIG.</a:t>
            </a:r>
            <a:endParaRPr b="0" lang="en-US" sz="18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eorgia"/>
              </a:rPr>
              <a:t>Siendo la contribuyente una asociación civil sin fines de lucro y estando sus ingresos destinados a la defensa gremial empresaria de quienes desarrollan actividades económicamente producidas en la Provincia de Buenos Aires, cabe concluir que los mismos se relacionan en forma directa con los fines específicos de su creación.</a:t>
            </a:r>
            <a:endParaRPr b="0" lang="en-US" sz="1800" spc="-1" strike="noStrike">
              <a:solidFill>
                <a:srgbClr val="000000"/>
              </a:solidFill>
              <a:latin typeface="Georgia"/>
            </a:endParaRPr>
          </a:p>
        </p:txBody>
      </p:sp>
      <p:sp>
        <p:nvSpPr>
          <p:cNvPr id="786"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79F5-8DB7-4B9C-A000-1DC1B3DADE7F}"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4256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Georgia"/>
              </a:rPr>
              <a:t>Improcedencia de la estimación de oficio sobre la base de incrementos patrimoniales no justificados</a:t>
            </a:r>
            <a:endParaRPr b="0" lang="en-US" sz="2600" spc="-1" strike="noStrike">
              <a:solidFill>
                <a:srgbClr val="8c438f"/>
              </a:solidFill>
              <a:latin typeface="Georgia"/>
            </a:endParaRPr>
          </a:p>
        </p:txBody>
      </p:sp>
      <p:sp>
        <p:nvSpPr>
          <p:cNvPr id="788" name=""/>
          <p:cNvSpPr txBox="1"/>
          <p:nvPr/>
        </p:nvSpPr>
        <p:spPr>
          <a:xfrm>
            <a:off x="142920" y="12855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Cereales Acebal SRL”, TFN, Sala “D” del 18/10/2011</a:t>
            </a:r>
            <a:endParaRPr b="0" lang="en-US" sz="20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El procedimiento de determinación de oficio sobre base presunta seguida por el Fisco Nacional, que concluyó que la contribuyente había efectuado venta de cereales sin el debido respaldo documental, a través de la cuenta del pasivo “Mercaderías a Pagar”, debe ser revocado, al omitirse contratar los elementos esenciales que determinan la existencia o no de la deuda.</a:t>
            </a:r>
            <a:endParaRPr b="0" lang="en-US" sz="2800" spc="-1" strike="noStrike">
              <a:solidFill>
                <a:srgbClr val="000000"/>
              </a:solidFill>
              <a:latin typeface="Georgia"/>
            </a:endParaRPr>
          </a:p>
        </p:txBody>
      </p:sp>
      <p:sp>
        <p:nvSpPr>
          <p:cNvPr id="789"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08F7-FD98-4FF2-9D3D-EA15943AB05B}"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4256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Georgia"/>
              </a:rPr>
              <a:t>La importancia de la prueba en la procedencia del ajuste impositivo por inflación</a:t>
            </a:r>
            <a:endParaRPr b="0" lang="en-US" sz="2600" spc="-1" strike="noStrike">
              <a:solidFill>
                <a:srgbClr val="8c438f"/>
              </a:solidFill>
              <a:latin typeface="Georgia"/>
            </a:endParaRPr>
          </a:p>
        </p:txBody>
      </p:sp>
      <p:sp>
        <p:nvSpPr>
          <p:cNvPr id="791" name=""/>
          <p:cNvSpPr txBox="1"/>
          <p:nvPr/>
        </p:nvSpPr>
        <p:spPr>
          <a:xfrm>
            <a:off x="142920" y="1285560"/>
            <a:ext cx="8786880" cy="5072040"/>
          </a:xfrm>
          <a:prstGeom prst="rect">
            <a:avLst/>
          </a:prstGeom>
          <a:noFill/>
          <a:ln w="0">
            <a:noFill/>
          </a:ln>
        </p:spPr>
        <p:txBody>
          <a:bodyPr anchor="t">
            <a:normAutofit fontScale="96000"/>
          </a:bodyPr>
          <a:p>
            <a:pPr marL="172080" indent="-172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eorgia"/>
              </a:rPr>
              <a:t>Causa: “Lartex SRL”, TFN, Sala “A” del 28/12/2011</a:t>
            </a:r>
            <a:endParaRPr b="0" lang="en-US" sz="2000" spc="-1" strike="noStrike">
              <a:solidFill>
                <a:srgbClr val="000000"/>
              </a:solidFill>
              <a:latin typeface="Georgia"/>
            </a:endParaRPr>
          </a:p>
          <a:p>
            <a:pPr marL="172080" indent="-1720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Resulta procedente aplicar el ajuste impositivo por inflación, en el caso, pues se ha producido prueba pericial contable de la que se desprende que, de aplicarse el mencionado mecanismo, no sólo no existiría impuesto a ingresar sino que se obtendría un quebranto impositivo, lo cual constituye una clara lesión patrimonial para la contribuyente.</a:t>
            </a:r>
            <a:endParaRPr b="0" lang="en-US" sz="2800" spc="-1" strike="noStrike">
              <a:solidFill>
                <a:srgbClr val="000000"/>
              </a:solidFill>
              <a:latin typeface="Georgia"/>
            </a:endParaRPr>
          </a:p>
          <a:p>
            <a:pPr marL="172080" indent="-17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	</a:t>
            </a:r>
            <a:endParaRPr b="0" lang="en-US" sz="2800" spc="-1" strike="noStrike">
              <a:solidFill>
                <a:srgbClr val="000000"/>
              </a:solidFill>
              <a:latin typeface="Georgia"/>
            </a:endParaRPr>
          </a:p>
          <a:p>
            <a:pPr marL="172080" indent="-172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eorgia"/>
              </a:rPr>
              <a:t>	</a:t>
            </a:r>
            <a:r>
              <a:rPr b="0" lang="es-AR" sz="2800" spc="-1" strike="noStrike">
                <a:solidFill>
                  <a:srgbClr val="000000"/>
                </a:solidFill>
                <a:latin typeface="Georgia"/>
              </a:rPr>
              <a:t>En igual sentido, “Gunningham, Diego”, TFN, Sala “D” del 3/8/11.</a:t>
            </a:r>
            <a:endParaRPr b="0" lang="en-US" sz="2800" spc="-1" strike="noStrike">
              <a:solidFill>
                <a:srgbClr val="000000"/>
              </a:solidFill>
              <a:latin typeface="Georgia"/>
            </a:endParaRPr>
          </a:p>
        </p:txBody>
      </p:sp>
      <p:sp>
        <p:nvSpPr>
          <p:cNvPr id="792"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A4F3-4E10-4AA1-BB5B-89CD61404B5A}"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42560" y="142560"/>
            <a:ext cx="8929800" cy="104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Los abogados de las partes no son responsables del ingreso de la tasa de justicia en el Código Tributario de San Luis</a:t>
            </a:r>
            <a:endParaRPr b="0" lang="en-US" sz="2400" spc="-1" strike="noStrike">
              <a:solidFill>
                <a:srgbClr val="8c438f"/>
              </a:solidFill>
              <a:latin typeface="Georgia"/>
            </a:endParaRPr>
          </a:p>
        </p:txBody>
      </p:sp>
      <p:sp>
        <p:nvSpPr>
          <p:cNvPr id="794" name=""/>
          <p:cNvSpPr txBox="1"/>
          <p:nvPr/>
        </p:nvSpPr>
        <p:spPr>
          <a:xfrm>
            <a:off x="142920" y="1285560"/>
            <a:ext cx="878688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eorgia"/>
              </a:rPr>
              <a:t>Causa: “Lujan Willians Automotores SA”, CSN, 13/3/12</a:t>
            </a:r>
            <a:endParaRPr b="0" lang="en-US" sz="1800" spc="-1" strike="noStrike">
              <a:solidFill>
                <a:srgbClr val="000000"/>
              </a:solidFill>
              <a:latin typeface="Georgia"/>
            </a:endParaRPr>
          </a:p>
          <a:p>
            <a:pPr marL="179280" indent="-179280">
              <a:spcBef>
                <a:spcPts val="601"/>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eorgia"/>
              </a:rPr>
              <a:t>La interpretación dada por el Superior Tribunal local en relación al Art. 283, 1º párrafo, del Código Tributario de la Pcia. de San Luis, en cuanto dispone que son contribuyentes de las tasas los usuarios del servicio que se retribuye “y los responsables quienes realicen las actuaciones gravadas”, a los fines de intimar a los letrados de ambas partes en juicio al pago de la tasa de justicia por considerar que revestían ese papel, resulta lesiva del derecho de propiedad de aquellos, como de la garantía de razonabilidad.</a:t>
            </a:r>
            <a:endParaRPr b="0" lang="en-US" sz="2400" spc="-1" strike="noStrike">
              <a:solidFill>
                <a:srgbClr val="000000"/>
              </a:solidFill>
              <a:latin typeface="Georgia"/>
            </a:endParaRPr>
          </a:p>
        </p:txBody>
      </p:sp>
      <p:sp>
        <p:nvSpPr>
          <p:cNvPr id="795"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F9E6-BB57-44AC-A70A-FA720679A467}"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13840" y="142560"/>
            <a:ext cx="8534520" cy="973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Georgia"/>
              </a:rPr>
              <a:t>Improcedencia del recurso de casación penal contra infracciones de carácter contravencional</a:t>
            </a:r>
            <a:endParaRPr b="0" lang="en-US" sz="2600" spc="-1" strike="noStrike">
              <a:solidFill>
                <a:srgbClr val="8c438f"/>
              </a:solidFill>
              <a:latin typeface="Georgia"/>
            </a:endParaRPr>
          </a:p>
        </p:txBody>
      </p:sp>
      <p:sp>
        <p:nvSpPr>
          <p:cNvPr id="623" name=""/>
          <p:cNvSpPr txBox="1"/>
          <p:nvPr/>
        </p:nvSpPr>
        <p:spPr>
          <a:xfrm>
            <a:off x="142920" y="1428480"/>
            <a:ext cx="8842320" cy="5072040"/>
          </a:xfrm>
          <a:prstGeom prst="rect">
            <a:avLst/>
          </a:prstGeom>
          <a:noFill/>
          <a:ln w="0">
            <a:noFill/>
          </a:ln>
        </p:spPr>
        <p:txBody>
          <a:bodyPr anchor="t">
            <a:normAutofit/>
          </a:bodyPr>
          <a:p>
            <a:pPr marL="179280" indent="-1792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Georgia"/>
              </a:rPr>
              <a:t>Causa: “Rodriguez, Fernando Fabián” CNAPE, Sala “A” del 22/11/11</a:t>
            </a:r>
            <a:endParaRPr b="0" lang="en-US" sz="1800" spc="-1" strike="noStrike">
              <a:solidFill>
                <a:srgbClr val="000000"/>
              </a:solidFill>
              <a:latin typeface="Georgia"/>
            </a:endParaRPr>
          </a:p>
          <a:p>
            <a:pPr marL="179280" indent="-179280">
              <a:spcAft>
                <a:spcPts val="601"/>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eorgia"/>
              </a:rPr>
              <a:t>La jurisprudencia de la Cámara Nacional de Casación Penal es coincidente en que los recursos de casación sólo resultan viables respecto de sentencias condenatorias firmes pronunciadas por órganos jurisdiccionales en la órbita del Poder Judicial con motivo de la comisión de conductas ilícitas que constituyan delitos. Por el contrario, el remedio elegido no procede respecto de resoluciones recaídas en casos de infracciones de carácter contravencional -como acontece en la especie- (conf. Cámara Nacional de Casación Penal, Regs. Nros. 6740/94 de la Sala I; 3340/00 y 19259 del 6/9/2011 de la Sala II; 191/99 y 397/01</a:t>
            </a:r>
            <a:r>
              <a:rPr b="0" lang="es-AR" sz="2400" spc="-1" strike="noStrike">
                <a:solidFill>
                  <a:srgbClr val="000000"/>
                </a:solidFill>
                <a:latin typeface="Georgia"/>
              </a:rPr>
              <a:t> de la Sala III y 3103/04 de la Sala IV.</a:t>
            </a:r>
            <a:endParaRPr b="0" lang="en-US" sz="2400" spc="-1" strike="noStrike">
              <a:solidFill>
                <a:srgbClr val="000000"/>
              </a:solidFill>
              <a:latin typeface="Georgia"/>
            </a:endParaRPr>
          </a:p>
        </p:txBody>
      </p:sp>
      <p:sp>
        <p:nvSpPr>
          <p:cNvPr id="624"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71C4-F997-48C4-AA1E-C7EC2D45CC42}"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Incumplimiento debida registración de alta y/o baja de trabajadores ocupados. Multa. Confirmación validez del régimen de graduación de sanciones. RG 1566 (I)</a:t>
            </a:r>
            <a:endParaRPr b="0" lang="en-US" sz="2400" spc="-1" strike="noStrike">
              <a:solidFill>
                <a:srgbClr val="8c438f"/>
              </a:solidFill>
              <a:latin typeface="Georgia"/>
            </a:endParaRPr>
          </a:p>
        </p:txBody>
      </p:sp>
      <p:sp>
        <p:nvSpPr>
          <p:cNvPr id="626" name=""/>
          <p:cNvSpPr txBox="1"/>
          <p:nvPr/>
        </p:nvSpPr>
        <p:spPr>
          <a:xfrm>
            <a:off x="142920" y="1285560"/>
            <a:ext cx="8858160" cy="5072040"/>
          </a:xfrm>
          <a:prstGeom prst="rect">
            <a:avLst/>
          </a:prstGeom>
          <a:noFill/>
          <a:ln w="0">
            <a:noFill/>
          </a:ln>
        </p:spPr>
        <p:txBody>
          <a:bodyPr anchor="t">
            <a:normAutofit fontScale="97000"/>
          </a:bodyPr>
          <a:p>
            <a:pPr marL="173880" indent="-17388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Georgia"/>
              </a:rPr>
              <a:t>Causa: “Malakian, Fernando Gregorio” CNAPE, Sala “B” del 20/10/11</a:t>
            </a:r>
            <a:endParaRPr b="0" lang="en-US" sz="1200" spc="-1" strike="noStrike">
              <a:solidFill>
                <a:srgbClr val="000000"/>
              </a:solidFill>
              <a:latin typeface="Georgia"/>
            </a:endParaRPr>
          </a:p>
          <a:p>
            <a:pPr marL="173880" indent="-1738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Georgia"/>
              </a:rPr>
              <a:t>P</a:t>
            </a:r>
            <a:r>
              <a:rPr b="0" lang="es-AR" sz="1400" spc="-1" strike="noStrike">
                <a:solidFill>
                  <a:srgbClr val="000000"/>
                </a:solidFill>
                <a:latin typeface="Georgia"/>
              </a:rPr>
              <a:t>or el acta de fecha 8 de noviembre de 2010, se dejó constancia que "...el contribuyente MALAKJAN FERNANDO GREGORIO...no dio cumplimiento a la debida registración del alta y/o baja de los trabajadores ocupados ... con los requisitos, plazos y condiciones que establece esta Administración Federal... ", y que aquel hecho constituiría una infracción al artículo agregado sin número a continuación del artículo 40 de la ley 11.683.</a:t>
            </a:r>
            <a:endParaRPr b="0" lang="en-US" sz="1400" spc="-1" strike="noStrike">
              <a:solidFill>
                <a:srgbClr val="000000"/>
              </a:solidFill>
              <a:latin typeface="Georgia"/>
            </a:endParaRPr>
          </a:p>
          <a:p>
            <a:pPr marL="173880" indent="-173880">
              <a:spcBef>
                <a:spcPts val="300"/>
              </a:spcBef>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En efecto, el contribuyente habría efectuado la notificación del alta correspondiente a la empleada Natalia Vanesa SPIGUELMAN, ante la A.F.I.P. el 27 de agosto de 2007 mientras que, por el relevamiento realizado, la nombrada declaró que ingresó a trabajar en el comercio de Fernando Gregorio MALAKJAN el 15 de agosto de 2007. En consecuencia, el contribuyente habría registrado ante la A.F.I.P. el alta correspondiente a la empleada mencionada doce días más tarde de lo que correspondía, pues conforme a lo establecido por los arts. 1, 2 y 17 de la R.G. 1891/2005 (A.F.LP.) la comunicación del alta de los trabajadores que realicen tareas inherentes a la actividad 523720, "VENTA AL POR MENOR DE ART. RELOJERIA, JOYERIA Y FANTASIA", como sucede en el caso de autos, debe ser efectuada por el empleador "... hasta el día inmediato anterior, inclusive, al de comienzo efectivo de las tareas, cualquiera fuera la modalidad de contratación celebrada" (confr. art. 3 b) de R.G. 1891/2005).</a:t>
            </a:r>
            <a:endParaRPr b="0" lang="en-US" sz="1400" spc="-1" strike="noStrike">
              <a:solidFill>
                <a:srgbClr val="000000"/>
              </a:solidFill>
              <a:latin typeface="Georgia"/>
            </a:endParaRPr>
          </a:p>
          <a:p>
            <a:pPr marL="173880" indent="-173880">
              <a:spcBef>
                <a:spcPts val="300"/>
              </a:spcBef>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Por el artículo agregado sin número a continuación del artículo 40 de la ley 11.683, introducido a partir de la reforma efectuada por la ley 25.795, se establece: "...Las sanciones indicadas en el artículo precedente [multa de $ 300 a $ 30.000 y clausura de 3 a 10 días], exceptuando a la de clausura, se aplicarán a quienes ocuparen trabajadores en relación de dependencia y no los registraren y declararen con las formalidades exigidas por las leyes respectivas. La sanción de clausura podrá aplicarse atendiendo a la gravedad del hecho y a la condición de reincidente del infractor...".</a:t>
            </a:r>
            <a:endParaRPr b="0" lang="en-US" sz="1400" spc="-1" strike="noStrike">
              <a:solidFill>
                <a:srgbClr val="000000"/>
              </a:solidFill>
              <a:latin typeface="Georgia"/>
            </a:endParaRPr>
          </a:p>
        </p:txBody>
      </p:sp>
      <p:sp>
        <p:nvSpPr>
          <p:cNvPr id="627"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9A0D-EEF2-43D6-AE49-B3A8573E2F02}"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Incumplimiento debida registración de alta y/o baja de trabajadores ocupados. Multa. Confirmación validez del régimen de graduación de sanciones. RG 1566 (II)</a:t>
            </a:r>
            <a:endParaRPr b="0" lang="en-US" sz="2400" spc="-1" strike="noStrike">
              <a:solidFill>
                <a:srgbClr val="8c438f"/>
              </a:solidFill>
              <a:latin typeface="Georgia"/>
            </a:endParaRPr>
          </a:p>
        </p:txBody>
      </p:sp>
      <p:sp>
        <p:nvSpPr>
          <p:cNvPr id="629" name=""/>
          <p:cNvSpPr txBox="1"/>
          <p:nvPr/>
        </p:nvSpPr>
        <p:spPr>
          <a:xfrm>
            <a:off x="142920" y="1285560"/>
            <a:ext cx="8858160" cy="5072040"/>
          </a:xfrm>
          <a:prstGeom prst="rect">
            <a:avLst/>
          </a:prstGeom>
          <a:noFill/>
          <a:ln w="0">
            <a:noFill/>
          </a:ln>
        </p:spPr>
        <p:txBody>
          <a:bodyPr anchor="t">
            <a:normAutofit fontScale="97000"/>
          </a:bodyPr>
          <a:p>
            <a:pPr marL="173880" indent="-1738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Con relación a los argumentos del contribuyente relativos a que por la conducta investigada no se causo un gravamen al fisco no se afectó el bien jurídico tutelado por la norma, cabe expresar que por artículo citado se sanciona una infracción de carácter formal consistente en el incumplimiento de deberes de aquel tipo, atinentes a las acciones u omisiones que  impliquen  transgresiones  a  las  leyes,  decretos,  resoluciones o instrucciones de la A.F.I.P., relativas al modo y a la oportunidad en las cuales los contribuyentes deben registrar y declarar a los trabajadores en relación laboral de dependencia que se desempeñen en los comercios de aquéllos.</a:t>
            </a:r>
            <a:endParaRPr b="0" lang="en-US" sz="1400" spc="-1" strike="noStrike">
              <a:solidFill>
                <a:srgbClr val="000000"/>
              </a:solidFill>
              <a:latin typeface="Georgia"/>
            </a:endParaRPr>
          </a:p>
          <a:p>
            <a:pPr marL="173880" indent="-17388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	</a:t>
            </a:r>
            <a:r>
              <a:rPr b="0" lang="es-AR" sz="1400" spc="-1" strike="noStrike">
                <a:solidFill>
                  <a:srgbClr val="000000"/>
                </a:solidFill>
                <a:latin typeface="Georgia"/>
              </a:rPr>
              <a:t>En este sentido, para constituir las transgresiones sólo basta el incumplimiento de la registración o de la declaración mediante las formalidades exigidas por las leyes respectivas de los trabajadores, pues de este modo se obstaculizan las facultades de determinación, fiscalización o investigación del órgano administrativo. </a:t>
            </a:r>
            <a:endParaRPr b="0" lang="en-US" sz="1400" spc="-1" strike="noStrike">
              <a:solidFill>
                <a:srgbClr val="000000"/>
              </a:solidFill>
              <a:latin typeface="Georgia"/>
            </a:endParaRPr>
          </a:p>
          <a:p>
            <a:pPr marL="173880" indent="-1738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Conforme ha establecido la Corte Suprema de Justicia de la Nación, "...por el incumplimiento de los deberes formales establecidos por el organismo de contralor se entorpecen las O Junciones de aquél y se afecta la igualdad tributaria mencionada, toda vez q que quienes cumplen las leyes se ven perjudicados económicamente con o respecto a aquéllos que no las cumplen " (Fallos 314:1376). En este sentido se ha expedido esta Sala "B" en numerosos casos análogos (confr. Regs. Nos. 327/03, 529/04, 1001/04; 126/08 y 490/08; entre muchos otros).</a:t>
            </a:r>
            <a:endParaRPr b="0" lang="en-US" sz="1400" spc="-1" strike="noStrike">
              <a:solidFill>
                <a:srgbClr val="000000"/>
              </a:solidFill>
              <a:latin typeface="Georgia"/>
            </a:endParaRPr>
          </a:p>
          <a:p>
            <a:pPr marL="173880" indent="-1738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Asimismo, para que la acción punible pueda ser reprochada subjetivamente al contribuyente es importante tener en cuenta si la conducta del nombrado fue, al menos, negligente; en caso contrario, debe demostrase la falta de participación subjetiva en el hecho, sin que alcance la sola enunciación.</a:t>
            </a:r>
            <a:endParaRPr b="0" lang="en-US" sz="1400" spc="-1" strike="noStrike">
              <a:solidFill>
                <a:srgbClr val="000000"/>
              </a:solidFill>
              <a:latin typeface="Georgia"/>
            </a:endParaRPr>
          </a:p>
          <a:p>
            <a:pPr marL="173880" indent="-17388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eorgia"/>
              </a:rPr>
              <a:t>	</a:t>
            </a:r>
            <a:r>
              <a:rPr b="0" lang="es-AR" sz="1400" spc="-1" strike="noStrike">
                <a:solidFill>
                  <a:srgbClr val="000000"/>
                </a:solidFill>
                <a:latin typeface="Georgia"/>
              </a:rPr>
              <a:t>De este modo, conforme surge de las constancias de la causa, el sumariado habría actuado, por lo menos, en forma negligente, dado que aquél habría registrado, ante la A.F.I.P., el alta correspondiente a la empleada Natalia Vanesa SPIGUELMAN doce días más tarde de lo que correspondía.</a:t>
            </a:r>
            <a:endParaRPr b="0" lang="en-US" sz="1400" spc="-1" strike="noStrike">
              <a:solidFill>
                <a:srgbClr val="000000"/>
              </a:solidFill>
              <a:latin typeface="Georgia"/>
            </a:endParaRPr>
          </a:p>
        </p:txBody>
      </p:sp>
      <p:sp>
        <p:nvSpPr>
          <p:cNvPr id="630"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E79B-097F-4CFD-AE6A-2CFF886C5662}"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13840" y="241200"/>
            <a:ext cx="89298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Georgia"/>
              </a:rPr>
              <a:t>Incumplimiento debida registración de alta y/o baja de trabajadores ocupados. Multa. Confirmación validez del régimen de graduación de sanciones. RG 1566 (III)</a:t>
            </a:r>
            <a:endParaRPr b="0" lang="en-US" sz="2400" spc="-1" strike="noStrike">
              <a:solidFill>
                <a:srgbClr val="8c438f"/>
              </a:solidFill>
              <a:latin typeface="Georgia"/>
            </a:endParaRPr>
          </a:p>
        </p:txBody>
      </p:sp>
      <p:sp>
        <p:nvSpPr>
          <p:cNvPr id="632" name=""/>
          <p:cNvSpPr txBox="1"/>
          <p:nvPr/>
        </p:nvSpPr>
        <p:spPr>
          <a:xfrm>
            <a:off x="142920" y="1285560"/>
            <a:ext cx="8858160" cy="5072040"/>
          </a:xfrm>
          <a:prstGeom prst="rect">
            <a:avLst/>
          </a:prstGeom>
          <a:noFill/>
          <a:ln w="0">
            <a:noFill/>
          </a:ln>
        </p:spPr>
        <p:txBody>
          <a:bodyPr anchor="t">
            <a:normAutofit fontScale="95000"/>
          </a:bodyPr>
          <a:p>
            <a:pPr marL="170280" indent="-1702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En efecto con un examen del acta por la cual se dejó constancia que "...el contribuyente Fernando Gregorio MALAKIAN....no dio cumplimiento a la debida registración del alta y/o baja de los trabajadores ocupados… con los requisitos, plazos y condiciones que establece esta Administración Federal... ", se advierte que el hecho investigado constituye una infracción a las formas que el organismo administrativo ha fijado, y tiene adecuación típica en el mencionado articulo agregado sin número a continuación del artículo 40 de la ley 11.683.</a:t>
            </a:r>
            <a:endParaRPr b="0" lang="en-US" sz="1600" spc="-1" strike="noStrike">
              <a:solidFill>
                <a:srgbClr val="000000"/>
              </a:solidFill>
              <a:latin typeface="Georgia"/>
            </a:endParaRPr>
          </a:p>
          <a:p>
            <a:pPr marL="170280" indent="-17028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0" lang="es-AR" sz="1600" spc="-1" strike="noStrike">
                <a:solidFill>
                  <a:srgbClr val="000000"/>
                </a:solidFill>
                <a:latin typeface="Georgia"/>
              </a:rPr>
              <a:t>En este sentido, por el capítulo J de la R.G. N° 1566 (A.F.I.P., texto sustituido en 2004) se estableció un régimen de graduación de las sanciones aplicables a las infracciones al artículo agregado sin número a continuación del artículo 40 de la ley 11.683.</a:t>
            </a:r>
            <a:endParaRPr b="0" lang="en-US" sz="1600" spc="-1" strike="noStrike">
              <a:solidFill>
                <a:srgbClr val="000000"/>
              </a:solidFill>
              <a:latin typeface="Georgia"/>
            </a:endParaRPr>
          </a:p>
          <a:p>
            <a:pPr marL="170280" indent="-170280">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	</a:t>
            </a:r>
            <a:r>
              <a:rPr b="0" lang="es-AR" sz="1600" spc="-1" strike="noStrike">
                <a:solidFill>
                  <a:srgbClr val="000000"/>
                </a:solidFill>
                <a:latin typeface="Georgia"/>
              </a:rPr>
              <a:t>En efecto, por el artículo 1º de aquella resolución se estableció: "...Los contribuyentes y/o responsables de aportes y contribuciones con destino al Sistema Único de la Seguridad Social (SUSS), incursos en las infracciones tipificadas por...la Ley N° 11.683, texto ordenado en 1998 y sus modificaciones, en su artículo agregado sin número a continuación del artículo 40...quedan sujetos al régimen de graduación de sanciones que se establece en esta resolución general... ".</a:t>
            </a:r>
            <a:endParaRPr b="0" lang="en-US" sz="1600" spc="-1" strike="noStrike">
              <a:solidFill>
                <a:srgbClr val="000000"/>
              </a:solidFill>
              <a:latin typeface="Georgia"/>
            </a:endParaRPr>
          </a:p>
          <a:p>
            <a:pPr marL="170280" indent="-170280">
              <a:spcAft>
                <a:spcPts val="300"/>
              </a:spcAft>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eorgia"/>
              </a:rPr>
              <a:t>Asimismo, por el artículo 17 de la R.G. 1566 (texto sustituido en 2004) se dispuso: "...Infracción prevista en el artículo agregado sin número a continuación del artículo 40 de la Ley N° 11.683...a) Incumplimiento a la debida registración del alta y/o baja de los trabajadores ocupados, con los requisitos, plazos y condiciones que establece esta Administración Federal: multa de MIL QUINIENTOS PESOS ($1.500)... “. </a:t>
            </a:r>
            <a:endParaRPr b="0" lang="en-US" sz="1600" spc="-1" strike="noStrike">
              <a:solidFill>
                <a:srgbClr val="000000"/>
              </a:solidFill>
              <a:latin typeface="Georgia"/>
            </a:endParaRPr>
          </a:p>
        </p:txBody>
      </p:sp>
      <p:sp>
        <p:nvSpPr>
          <p:cNvPr id="633" name="3 Marcador de número de diapositiva"/>
          <p:cNvSpPr/>
          <p:nvPr/>
        </p:nvSpPr>
        <p:spPr>
          <a:xfrm>
            <a:off x="8615520" y="6345360"/>
            <a:ext cx="457200" cy="44136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13CA-33CA-4EA1-871A-DEAE461BD94F}" type="slidenum">
              <a:rPr b="1" lang="es-AR" sz="1000" spc="-1" strike="noStrike">
                <a:solidFill>
                  <a:srgbClr val="000000"/>
                </a:solidFill>
                <a:latin typeface="Georgia"/>
              </a:rPr>
              <a:t>&lt;number&gt;</a:t>
            </a:fld>
            <a:endParaRPr b="0" lang="en-US" sz="10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2T15:08:47Z</dcterms:created>
  <dc:creator>Nancy</dc:creator>
  <dc:description/>
  <dc:language>en-US</dc:language>
  <cp:lastModifiedBy>Nancy</cp:lastModifiedBy>
  <dcterms:modified xsi:type="dcterms:W3CDTF">2012-04-10T14:20:34Z</dcterms:modified>
  <cp:revision>214</cp:revision>
  <dc:subject/>
  <dc:title>RESEÑA DE JURISPRUDENCIA</dc:title>
</cp:coreProperties>
</file>